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11.pct" ContentType="image/x-pict"/>
  <Override PartName="/ppt/media/image9.png" ContentType="image/png"/>
  <Override PartName="/ppt/media/image8.png" ContentType="image/png"/>
  <Override PartName="/ppt/media/image19.pct" ContentType="image/x-pict"/>
  <Override PartName="/ppt/media/image6.jpeg" ContentType="image/jpeg"/>
  <Override PartName="/ppt/media/image10.png" ContentType="image/png"/>
  <Override PartName="/ppt/media/image12.pct" ContentType="image/x-pict"/>
  <Override PartName="/ppt/media/image1.png" ContentType="image/png"/>
  <Override PartName="/ppt/media/image7.pct" ContentType="image/x-pict"/>
  <Override PartName="/ppt/media/image5.jpeg" ContentType="image/jpeg"/>
  <Override PartName="/ppt/media/image4.png" ContentType="image/png"/>
  <Override PartName="/ppt/media/image3.pct" ContentType="image/x-pict"/>
  <Override PartName="/ppt/media/image26.pct" ContentType="image/x-pict"/>
  <Override PartName="/ppt/media/image27.pct" ContentType="image/x-pict"/>
  <Override PartName="/ppt/media/image15.jpeg" ContentType="image/jpeg"/>
  <Override PartName="/ppt/media/image24.jpeg" ContentType="image/jpeg"/>
  <Override PartName="/ppt/media/image16.pct" ContentType="image/x-pict"/>
  <Override PartName="/ppt/media/image28.pct" ContentType="image/x-pict"/>
  <Override PartName="/ppt/media/image23.jpeg" ContentType="image/jpeg"/>
  <Override PartName="/ppt/media/image21.jpeg" ContentType="image/jpeg"/>
  <Override PartName="/ppt/media/image2.pct" ContentType="image/x-pict"/>
  <Override PartName="/ppt/media/image25.pct" ContentType="image/x-pict"/>
  <Override PartName="/ppt/media/image20.png" ContentType="image/png"/>
  <Override PartName="/ppt/media/image18.pct" ContentType="image/x-pict"/>
  <Override PartName="/ppt/media/image22.jpeg" ContentType="image/jpeg"/>
  <Override PartName="/ppt/media/image14.png" ContentType="image/png"/>
  <Override PartName="/ppt/media/image1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141-A3A6-4BF7-A6DE-13BD6B45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A69-D064-4F79-8C35-2C26757D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630-C6B9-4E81-B08A-126A9A52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854-5116-421D-BA68-59774A53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26EA-5514-4CB6-9B36-05B114C3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9A6-5BBC-4E92-AC77-B742A093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5FF-B110-46CD-AD9B-F67BC2F1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2A1-96F9-463B-AA0F-98F2E683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2A6-08C3-485C-B189-7EA8A9A5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14D-7245-47F3-9C20-CFFBD314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80B-5818-4771-9F2A-3B21E5FC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FA6-66E2-4D58-9717-6D188B29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0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4640" y="6746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6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3D7286AF-B9CB-4EA8-9FD2-01FAF1B3F2F7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ct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2.pct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8.pct"/><Relationship Id="rId7" Type="http://schemas.openxmlformats.org/officeDocument/2006/relationships/image" Target="../media/image19.pct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6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8.pct"/><Relationship Id="rId4" Type="http://schemas.openxmlformats.org/officeDocument/2006/relationships/image" Target="../media/image28.pct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ct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8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8.png"/><Relationship Id="rId32" Type="http://schemas.openxmlformats.org/officeDocument/2006/relationships/image" Target="../media/image10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10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10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0"/>
            <a:ext cx="9626040" cy="7277760"/>
            <a:chOff x="76320" y="0"/>
            <a:chExt cx="9626040" cy="7277760"/>
          </a:xfrm>
        </p:grpSpPr>
        <p:pic>
          <p:nvPicPr>
            <p:cNvPr id="4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1480" cy="85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974160" y="124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10360" y="565560"/>
              <a:ext cx="8728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4481640" y="80640"/>
              <a:ext cx="5220720" cy="41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840" y="70315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e2c02"/>
                </a:solidFill>
                <a:latin typeface="Comic Sans MS"/>
              </a:rPr>
              <a:t>Le duplicazioni genomiche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37360" y="672912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306396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324480" y="380880"/>
            <a:ext cx="281952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(11;2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81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304920" y="1154880"/>
            <a:ext cx="93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traslocazione 11q/22q e’ l’unica trasloc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stituzionale ricorrente non robertsoniana. Anche in questo caso i portatori che si presentano fenotipicamente normali vengono individuati per la nascita di progenie sbilanci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228600" y="4187880"/>
            <a:ext cx="2460600" cy="2511360"/>
          </a:xfrm>
          <a:prstGeom prst="rect">
            <a:avLst/>
          </a:prstGeom>
          <a:ln w="0">
            <a:noFill/>
          </a:ln>
        </p:spPr>
      </p:pic>
      <p:grpSp>
        <p:nvGrpSpPr>
          <p:cNvPr id="826" name=""/>
          <p:cNvGrpSpPr/>
          <p:nvPr/>
        </p:nvGrpSpPr>
        <p:grpSpPr>
          <a:xfrm>
            <a:off x="3809880" y="5919840"/>
            <a:ext cx="301680" cy="611280"/>
            <a:chOff x="3809880" y="5919840"/>
            <a:chExt cx="301680" cy="611280"/>
          </a:xfrm>
        </p:grpSpPr>
        <p:sp>
          <p:nvSpPr>
            <p:cNvPr id="827" name=""/>
            <p:cNvSpPr/>
            <p:nvPr/>
          </p:nvSpPr>
          <p:spPr>
            <a:xfrm>
              <a:off x="3809880" y="645480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809880" y="640080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09880" y="6342120"/>
              <a:ext cx="301680" cy="77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809880" y="6288120"/>
              <a:ext cx="301680" cy="77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09880" y="6137280"/>
              <a:ext cx="301680" cy="184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09880" y="6053040"/>
              <a:ext cx="301680" cy="130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809880" y="5962680"/>
              <a:ext cx="301680" cy="130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09880" y="591984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486400" y="5137200"/>
            <a:ext cx="304560" cy="871560"/>
            <a:chOff x="5486400" y="5137200"/>
            <a:chExt cx="304560" cy="871560"/>
          </a:xfrm>
        </p:grpSpPr>
        <p:grpSp>
          <p:nvGrpSpPr>
            <p:cNvPr id="836" name=""/>
            <p:cNvGrpSpPr/>
            <p:nvPr/>
          </p:nvGrpSpPr>
          <p:grpSpPr>
            <a:xfrm>
              <a:off x="5486400" y="5622840"/>
              <a:ext cx="301680" cy="385920"/>
              <a:chOff x="5486400" y="5622840"/>
              <a:chExt cx="301680" cy="385920"/>
            </a:xfrm>
          </p:grpSpPr>
          <p:sp>
            <p:nvSpPr>
              <p:cNvPr id="837" name=""/>
              <p:cNvSpPr/>
              <p:nvPr/>
            </p:nvSpPr>
            <p:spPr>
              <a:xfrm>
                <a:off x="5486400" y="5888160"/>
                <a:ext cx="301680" cy="120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486400" y="5799240"/>
                <a:ext cx="301680" cy="120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86400" y="5707080"/>
                <a:ext cx="301680" cy="123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6400" y="5622840"/>
                <a:ext cx="301680" cy="1209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5486400" y="558324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86400" y="5492880"/>
              <a:ext cx="30168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537160" y="5410080"/>
              <a:ext cx="199800" cy="90720"/>
            </a:xfrm>
            <a:prstGeom prst="ca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89280" y="5137200"/>
              <a:ext cx="301680" cy="90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89280" y="5302080"/>
              <a:ext cx="301680" cy="130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27440" y="5254560"/>
              <a:ext cx="225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527440" y="5291280"/>
              <a:ext cx="22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4952880" y="5137200"/>
            <a:ext cx="304560" cy="1110960"/>
            <a:chOff x="4952880" y="5137200"/>
            <a:chExt cx="304560" cy="1110960"/>
          </a:xfrm>
        </p:grpSpPr>
        <p:sp>
          <p:nvSpPr>
            <p:cNvPr id="849" name=""/>
            <p:cNvSpPr/>
            <p:nvPr/>
          </p:nvSpPr>
          <p:spPr>
            <a:xfrm>
              <a:off x="4952880" y="6171480"/>
              <a:ext cx="301680" cy="76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952880" y="611784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52880" y="605988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52880" y="600624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952880" y="5854680"/>
              <a:ext cx="301680" cy="183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952880" y="5771160"/>
              <a:ext cx="301680" cy="129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952880" y="5680440"/>
              <a:ext cx="301680" cy="129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52880" y="563688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952880" y="5582880"/>
              <a:ext cx="301680" cy="76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952880" y="5491800"/>
              <a:ext cx="301680" cy="129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02920" y="5409720"/>
              <a:ext cx="200880" cy="90720"/>
            </a:xfrm>
            <a:prstGeom prst="ca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955760" y="5137200"/>
              <a:ext cx="301680" cy="90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955760" y="5302440"/>
              <a:ext cx="301680" cy="129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993200" y="5254200"/>
              <a:ext cx="226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993200" y="5290200"/>
              <a:ext cx="22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3276720" y="3124080"/>
            <a:ext cx="304560" cy="3144960"/>
            <a:chOff x="3276720" y="3124080"/>
            <a:chExt cx="304560" cy="3144960"/>
          </a:xfrm>
        </p:grpSpPr>
        <p:sp>
          <p:nvSpPr>
            <p:cNvPr id="865" name=""/>
            <p:cNvSpPr/>
            <p:nvPr/>
          </p:nvSpPr>
          <p:spPr>
            <a:xfrm>
              <a:off x="3276720" y="6148440"/>
              <a:ext cx="301680" cy="12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276720" y="6059520"/>
              <a:ext cx="301680" cy="12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76720" y="5967360"/>
              <a:ext cx="301680" cy="123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276720" y="5823000"/>
              <a:ext cx="301680" cy="176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6720" y="5587920"/>
              <a:ext cx="301680" cy="279360"/>
            </a:xfrm>
            <a:prstGeom prst="can">
              <a:avLst>
                <a:gd name="adj" fmla="val 5833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276720" y="5284800"/>
              <a:ext cx="301680" cy="34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76720" y="5175360"/>
              <a:ext cx="301680" cy="206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276720" y="4902120"/>
              <a:ext cx="301680" cy="343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276720" y="4510080"/>
              <a:ext cx="301680" cy="477720"/>
            </a:xfrm>
            <a:prstGeom prst="can">
              <a:avLst>
                <a:gd name="adj" fmla="val 5833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276720" y="4332240"/>
              <a:ext cx="301680" cy="204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327480" y="4127400"/>
              <a:ext cx="199800" cy="24156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76720" y="3889440"/>
              <a:ext cx="301680" cy="291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76720" y="3747960"/>
              <a:ext cx="301680" cy="217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76720" y="3606840"/>
              <a:ext cx="301680" cy="212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76720" y="3316320"/>
              <a:ext cx="301680" cy="34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279600" y="3124080"/>
              <a:ext cx="301680" cy="287280"/>
            </a:xfrm>
            <a:prstGeom prst="can">
              <a:avLst>
                <a:gd name="adj" fmla="val 16666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2895480" y="5638680"/>
            <a:ext cx="381240" cy="304920"/>
          </a:xfrm>
          <a:prstGeom prst="lightningBol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809880" y="5823000"/>
            <a:ext cx="301680" cy="120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809880" y="5587920"/>
            <a:ext cx="301680" cy="279360"/>
          </a:xfrm>
          <a:prstGeom prst="can">
            <a:avLst>
              <a:gd name="adj" fmla="val 5833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09880" y="5284800"/>
            <a:ext cx="301680" cy="342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09880" y="5175360"/>
            <a:ext cx="30168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70408"/>
              </a:gs>
              <a:gs pos="50000">
                <a:srgbClr val="ffffff"/>
              </a:gs>
              <a:gs pos="100000">
                <a:srgbClr val="8704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809880" y="4902120"/>
            <a:ext cx="301680" cy="34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09880" y="4510080"/>
            <a:ext cx="301680" cy="477720"/>
          </a:xfrm>
          <a:prstGeom prst="can">
            <a:avLst>
              <a:gd name="adj" fmla="val 5833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09880" y="4332240"/>
            <a:ext cx="30168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860640" y="4127400"/>
            <a:ext cx="200160" cy="241560"/>
          </a:xfrm>
          <a:prstGeom prst="can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09880" y="3889440"/>
            <a:ext cx="301680" cy="291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09880" y="3747960"/>
            <a:ext cx="301680" cy="217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809880" y="3606840"/>
            <a:ext cx="301680" cy="212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809880" y="3316320"/>
            <a:ext cx="301680" cy="342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813120" y="3124080"/>
            <a:ext cx="301680" cy="287280"/>
          </a:xfrm>
          <a:prstGeom prst="can">
            <a:avLst>
              <a:gd name="adj" fmla="val 16666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572000" y="5334120"/>
            <a:ext cx="380880" cy="304560"/>
          </a:xfrm>
          <a:prstGeom prst="lightningBol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49640" y="65131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672360" y="651312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r(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929480" y="65131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48520" y="651312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r(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0920" y="37551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rtatore bilanci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699240" y="3780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ogenie  sbilanci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9067320" y="57150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327720" y="4194000"/>
            <a:ext cx="3502080" cy="2511720"/>
            <a:chOff x="6327720" y="4194000"/>
            <a:chExt cx="3502080" cy="2511720"/>
          </a:xfrm>
        </p:grpSpPr>
        <p:pic>
          <p:nvPicPr>
            <p:cNvPr id="904" name="" descr=""/>
            <p:cNvPicPr/>
            <p:nvPr/>
          </p:nvPicPr>
          <p:blipFill>
            <a:blip r:embed="rId7"/>
            <a:stretch/>
          </p:blipFill>
          <p:spPr>
            <a:xfrm>
              <a:off x="6327720" y="4194000"/>
              <a:ext cx="3502080" cy="25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8698320" y="611460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r(2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547920" y="5667840"/>
            <a:ext cx="1877040" cy="942840"/>
            <a:chOff x="547920" y="5667840"/>
            <a:chExt cx="1877040" cy="942840"/>
          </a:xfrm>
        </p:grpSpPr>
        <p:sp>
          <p:nvSpPr>
            <p:cNvPr id="907" name=""/>
            <p:cNvSpPr/>
            <p:nvPr/>
          </p:nvSpPr>
          <p:spPr>
            <a:xfrm flipH="1">
              <a:off x="2009520" y="5667840"/>
              <a:ext cx="19440" cy="32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11760" y="6023520"/>
              <a:ext cx="167040" cy="2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47920" y="627336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r(1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535400" y="596232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r(2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029200" y="69526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riotipi del laboratorio Prof.ssa O.Zuffar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(11;22) origin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91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152280" y="866520"/>
            <a:ext cx="952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punto di rottura di entrambi i cromosomi contiene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quenza (AT)n palindromica (PATRR:PalindromicATRichReg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228600" y="2286000"/>
            <a:ext cx="8915040" cy="2057400"/>
            <a:chOff x="228600" y="2286000"/>
            <a:chExt cx="8915040" cy="2057400"/>
          </a:xfrm>
        </p:grpSpPr>
        <p:sp>
          <p:nvSpPr>
            <p:cNvPr id="921" name=""/>
            <p:cNvSpPr/>
            <p:nvPr/>
          </p:nvSpPr>
          <p:spPr>
            <a:xfrm>
              <a:off x="228600" y="2878200"/>
              <a:ext cx="617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50000"/>
                <a:buFont typeface="Wingdings" charset="2"/>
                <a:buChar char="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Il BP sul cromosoma 22 cade in un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ei dupliconi della regione DGS/VC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6858000" y="2286000"/>
              <a:ext cx="2285640" cy="2057400"/>
              <a:chOff x="6858000" y="2286000"/>
              <a:chExt cx="2285640" cy="2057400"/>
            </a:xfrm>
          </p:grpSpPr>
          <p:sp>
            <p:nvSpPr>
              <p:cNvPr id="923" name=""/>
              <p:cNvSpPr/>
              <p:nvPr/>
            </p:nvSpPr>
            <p:spPr>
              <a:xfrm>
                <a:off x="8915040" y="2286000"/>
                <a:ext cx="0" cy="20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6858000" y="2441160"/>
                <a:ext cx="273600" cy="1613880"/>
                <a:chOff x="6858000" y="2441160"/>
                <a:chExt cx="273600" cy="161388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858000" y="3943440"/>
                  <a:ext cx="270720" cy="1116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993366"/>
                    </a:gs>
                    <a:gs pos="50000">
                      <a:srgbClr val="ffffff"/>
                    </a:gs>
                    <a:gs pos="100000">
                      <a:srgbClr val="99336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858000" y="3864960"/>
                  <a:ext cx="270720" cy="11124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0"/>
                    </a:gs>
                    <a:gs pos="50000">
                      <a:srgbClr val="ffffff"/>
                    </a:gs>
                    <a:gs pos="100000">
                      <a:srgbClr val="000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858000" y="3781080"/>
                  <a:ext cx="270720" cy="11124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993366"/>
                    </a:gs>
                    <a:gs pos="50000">
                      <a:srgbClr val="ffffff"/>
                    </a:gs>
                    <a:gs pos="100000">
                      <a:srgbClr val="99336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858000" y="3702960"/>
                  <a:ext cx="270720" cy="11124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0"/>
                    </a:gs>
                    <a:gs pos="50000">
                      <a:srgbClr val="ffffff"/>
                    </a:gs>
                    <a:gs pos="100000">
                      <a:srgbClr val="000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858000" y="3483000"/>
                  <a:ext cx="270720" cy="26676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993366"/>
                    </a:gs>
                    <a:gs pos="50000">
                      <a:srgbClr val="ffffff"/>
                    </a:gs>
                    <a:gs pos="100000">
                      <a:srgbClr val="99336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858000" y="3362040"/>
                  <a:ext cx="270720" cy="1882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0"/>
                    </a:gs>
                    <a:gs pos="50000">
                      <a:srgbClr val="ffffff"/>
                    </a:gs>
                    <a:gs pos="100000">
                      <a:srgbClr val="000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858000" y="3229920"/>
                  <a:ext cx="270720" cy="1882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0"/>
                    </a:gs>
                    <a:gs pos="50000">
                      <a:srgbClr val="ffffff"/>
                    </a:gs>
                    <a:gs pos="100000">
                      <a:srgbClr val="000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858000" y="3166560"/>
                  <a:ext cx="270720" cy="11124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993366"/>
                    </a:gs>
                    <a:gs pos="50000">
                      <a:srgbClr val="ffffff"/>
                    </a:gs>
                    <a:gs pos="100000">
                      <a:srgbClr val="99336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858000" y="3088440"/>
                  <a:ext cx="270720" cy="11124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0"/>
                    </a:gs>
                    <a:gs pos="50000">
                      <a:srgbClr val="ffffff"/>
                    </a:gs>
                    <a:gs pos="100000">
                      <a:srgbClr val="000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858000" y="2956320"/>
                  <a:ext cx="270720" cy="1882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870408"/>
                    </a:gs>
                    <a:gs pos="50000">
                      <a:srgbClr val="ffffff"/>
                    </a:gs>
                    <a:gs pos="100000">
                      <a:srgbClr val="870408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903000" y="2836800"/>
                  <a:ext cx="180360" cy="1317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860880" y="2441160"/>
                  <a:ext cx="270720" cy="13176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993366"/>
                    </a:gs>
                    <a:gs pos="50000">
                      <a:srgbClr val="ffffff"/>
                    </a:gs>
                    <a:gs pos="100000">
                      <a:srgbClr val="99336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860880" y="2681280"/>
                  <a:ext cx="270720" cy="1882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993366"/>
                    </a:gs>
                    <a:gs pos="50000">
                      <a:srgbClr val="ffffff"/>
                    </a:gs>
                    <a:gs pos="100000">
                      <a:srgbClr val="99336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894360" y="2611080"/>
                  <a:ext cx="2030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894360" y="2663640"/>
                  <a:ext cx="20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0" name=""/>
              <p:cNvSpPr/>
              <p:nvPr/>
            </p:nvSpPr>
            <p:spPr>
              <a:xfrm flipV="1">
                <a:off x="7131600" y="2640600"/>
                <a:ext cx="869400" cy="51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131600" y="3151800"/>
                <a:ext cx="932400" cy="55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870040" y="2503080"/>
                <a:ext cx="273600" cy="178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870040" y="3026160"/>
                <a:ext cx="273600" cy="180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870040" y="3307320"/>
                <a:ext cx="273600" cy="178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870040" y="3621960"/>
                <a:ext cx="273600" cy="180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870040" y="3893760"/>
                <a:ext cx="273600" cy="17892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103600" y="2472120"/>
                <a:ext cx="77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CES B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146800" y="3567240"/>
                <a:ext cx="77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CES B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834680" y="3000240"/>
                <a:ext cx="1116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t(11;22) B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0" name=""/>
          <p:cNvSpPr/>
          <p:nvPr/>
        </p:nvSpPr>
        <p:spPr>
          <a:xfrm>
            <a:off x="76320" y="5821200"/>
            <a:ext cx="96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se tramite la formazione di una “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airpin/cruciform structure”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Kurahashi H.et al.Hum.mol.Genet. 9(11)1665-1670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752480" y="4724280"/>
            <a:ext cx="6858000" cy="781200"/>
            <a:chOff x="1752480" y="4724280"/>
            <a:chExt cx="6858000" cy="781200"/>
          </a:xfrm>
        </p:grpSpPr>
        <p:sp>
          <p:nvSpPr>
            <p:cNvPr id="952" name=""/>
            <p:cNvSpPr/>
            <p:nvPr/>
          </p:nvSpPr>
          <p:spPr>
            <a:xfrm>
              <a:off x="2438280" y="492156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Quale potrebbe essere il meccanismo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3" name="" descr=""/>
            <p:cNvPicPr/>
            <p:nvPr/>
          </p:nvPicPr>
          <p:blipFill>
            <a:blip r:embed="rId3"/>
            <a:stretch/>
          </p:blipFill>
          <p:spPr>
            <a:xfrm>
              <a:off x="1752480" y="4724280"/>
              <a:ext cx="619200" cy="78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105160" y="45684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(11;22) origin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95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457200" y="15364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rse tramite la formazione di una “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airpin/cruciform structure”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in cui il centro della forcina e’ suscettibile alle DSB(double-strand break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 struttura potrebbe originarsi anche in altri cromosomi che condividono la stessa organizzazione e questo sarebbe l’innesco per la traslo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853920" y="3064680"/>
            <a:ext cx="4389480" cy="2194560"/>
            <a:chOff x="853920" y="3064680"/>
            <a:chExt cx="4389480" cy="2194560"/>
          </a:xfrm>
        </p:grpSpPr>
        <p:grpSp>
          <p:nvGrpSpPr>
            <p:cNvPr id="963" name=""/>
            <p:cNvGrpSpPr/>
            <p:nvPr/>
          </p:nvGrpSpPr>
          <p:grpSpPr>
            <a:xfrm>
              <a:off x="853920" y="3222720"/>
              <a:ext cx="304920" cy="1752480"/>
              <a:chOff x="853920" y="3222720"/>
              <a:chExt cx="304920" cy="1752480"/>
            </a:xfrm>
          </p:grpSpPr>
          <p:sp>
            <p:nvSpPr>
              <p:cNvPr id="964" name=""/>
              <p:cNvSpPr/>
              <p:nvPr/>
            </p:nvSpPr>
            <p:spPr>
              <a:xfrm>
                <a:off x="903960" y="3222720"/>
                <a:ext cx="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53920" y="3407400"/>
                <a:ext cx="304920" cy="1522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53920" y="3853440"/>
                <a:ext cx="304920" cy="1533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53920" y="4092480"/>
                <a:ext cx="304920" cy="1522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53920" y="4360680"/>
                <a:ext cx="304920" cy="1533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53920" y="4592520"/>
                <a:ext cx="304920" cy="15192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 flipV="1">
              <a:off x="1158840" y="345132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158840" y="3908520"/>
              <a:ext cx="17524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3194640" y="3064680"/>
              <a:ext cx="2048760" cy="2194560"/>
              <a:chOff x="3194640" y="3064680"/>
              <a:chExt cx="2048760" cy="2194560"/>
            </a:xfrm>
          </p:grpSpPr>
          <p:sp>
            <p:nvSpPr>
              <p:cNvPr id="973" name=""/>
              <p:cNvSpPr/>
              <p:nvPr/>
            </p:nvSpPr>
            <p:spPr>
              <a:xfrm rot="5460600">
                <a:off x="3684960" y="3186360"/>
                <a:ext cx="816120" cy="58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516" y="974"/>
                      <a:pt x="5431" y="5080"/>
                      <a:pt x="5431" y="10800"/>
                    </a:cubicBezTo>
                    <a:cubicBezTo>
                      <a:pt x="5431" y="16520"/>
                      <a:pt x="13516" y="2062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5534400">
                <a:off x="3740760" y="3791160"/>
                <a:ext cx="220680" cy="98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5534400">
                <a:off x="4221720" y="3791160"/>
                <a:ext cx="220680" cy="98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75200" y="3940200"/>
                <a:ext cx="268200" cy="114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666960" y="3941640"/>
                <a:ext cx="225720" cy="968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260960" y="3941640"/>
                <a:ext cx="608040" cy="115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946760" y="3840120"/>
                <a:ext cx="83880" cy="23796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44840" y="3941640"/>
                <a:ext cx="166680" cy="968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719520" y="3975120"/>
                <a:ext cx="136440" cy="824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270320" y="3975120"/>
                <a:ext cx="136440" cy="824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468680" y="3975120"/>
                <a:ext cx="136800" cy="824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6221600">
                <a:off x="3693240" y="4557960"/>
                <a:ext cx="816120" cy="58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516" y="974"/>
                      <a:pt x="5431" y="5080"/>
                      <a:pt x="5431" y="10800"/>
                    </a:cubicBezTo>
                    <a:cubicBezTo>
                      <a:pt x="5431" y="16520"/>
                      <a:pt x="13516" y="2062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5534400">
                <a:off x="3724920" y="4239000"/>
                <a:ext cx="220680" cy="98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5534400">
                <a:off x="4205880" y="4251600"/>
                <a:ext cx="220680" cy="98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959360" y="4095720"/>
                <a:ext cx="268200" cy="114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651120" y="4097160"/>
                <a:ext cx="225720" cy="968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45120" y="4097160"/>
                <a:ext cx="608040" cy="115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0" name=""/>
              <p:cNvGrpSpPr/>
              <p:nvPr/>
            </p:nvGrpSpPr>
            <p:grpSpPr>
              <a:xfrm>
                <a:off x="4822920" y="3900240"/>
                <a:ext cx="112320" cy="501480"/>
                <a:chOff x="4822920" y="3900240"/>
                <a:chExt cx="112320" cy="50148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4822920" y="3924000"/>
                  <a:ext cx="56520" cy="4777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878720" y="3900240"/>
                  <a:ext cx="56520" cy="4777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3" name=""/>
              <p:cNvSpPr/>
              <p:nvPr/>
            </p:nvSpPr>
            <p:spPr>
              <a:xfrm>
                <a:off x="4930920" y="3995640"/>
                <a:ext cx="83880" cy="23796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4" name=""/>
              <p:cNvGrpSpPr/>
              <p:nvPr/>
            </p:nvGrpSpPr>
            <p:grpSpPr>
              <a:xfrm>
                <a:off x="3567240" y="3908160"/>
                <a:ext cx="112320" cy="500040"/>
                <a:chOff x="3567240" y="3908160"/>
                <a:chExt cx="112320" cy="50004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3567240" y="3931920"/>
                  <a:ext cx="56520" cy="47628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623040" y="3908160"/>
                  <a:ext cx="56520" cy="47628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7" name=""/>
              <p:cNvSpPr/>
              <p:nvPr/>
            </p:nvSpPr>
            <p:spPr>
              <a:xfrm>
                <a:off x="3429000" y="4097160"/>
                <a:ext cx="166680" cy="968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703680" y="4130640"/>
                <a:ext cx="136440" cy="824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254480" y="4130640"/>
                <a:ext cx="136440" cy="824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452840" y="4130640"/>
                <a:ext cx="136800" cy="824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200400" y="3298680"/>
                <a:ext cx="533520" cy="380880"/>
              </a:xfrm>
              <a:prstGeom prst="lightningBolt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5650200">
                <a:off x="4343040" y="3298320"/>
                <a:ext cx="533520" cy="380880"/>
              </a:xfrm>
              <a:prstGeom prst="lightningBolt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0153800">
                <a:off x="4419360" y="4289040"/>
                <a:ext cx="533160" cy="380880"/>
              </a:xfrm>
              <a:prstGeom prst="lightningBolt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7441400">
                <a:off x="3200040" y="4289040"/>
                <a:ext cx="533520" cy="380880"/>
              </a:xfrm>
              <a:prstGeom prst="lightningBolt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5" name=""/>
          <p:cNvSpPr/>
          <p:nvPr/>
        </p:nvSpPr>
        <p:spPr>
          <a:xfrm>
            <a:off x="228600" y="5733720"/>
            <a:ext cx="95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 effetti sembra che il BP sia localizzato all’estremita’ della forcina e un’altro caso e’ stato riportato nel 2003 in cui e’ coinvolta la stessa sequenza del 22 e una sequenza ATn localizzata sul 17. I BP di questa traslocazione hanno la stessa organizzazione della 11/22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Kurahashi H. et al. Am.J.Hum.Genet.72733-738, 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6400800" y="3048120"/>
            <a:ext cx="3301200" cy="2218320"/>
            <a:chOff x="6400800" y="3048120"/>
            <a:chExt cx="3301200" cy="2218320"/>
          </a:xfrm>
        </p:grpSpPr>
        <p:sp>
          <p:nvSpPr>
            <p:cNvPr id="1007" name=""/>
            <p:cNvSpPr/>
            <p:nvPr/>
          </p:nvSpPr>
          <p:spPr>
            <a:xfrm>
              <a:off x="8606880" y="31453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.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606880" y="35265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.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000920" y="4686480"/>
              <a:ext cx="290520" cy="125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70408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48560" y="4686480"/>
              <a:ext cx="188640" cy="117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70408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6904080" y="4613400"/>
              <a:ext cx="87120" cy="274680"/>
              <a:chOff x="6904080" y="4613400"/>
              <a:chExt cx="87120" cy="274680"/>
            </a:xfrm>
          </p:grpSpPr>
          <p:sp>
            <p:nvSpPr>
              <p:cNvPr id="1012" name=""/>
              <p:cNvSpPr/>
              <p:nvPr/>
            </p:nvSpPr>
            <p:spPr>
              <a:xfrm>
                <a:off x="6904080" y="4626360"/>
                <a:ext cx="43560" cy="2617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947280" y="4613400"/>
                <a:ext cx="43920" cy="2617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8153280" y="3208320"/>
              <a:ext cx="304920" cy="138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70800" y="3211560"/>
              <a:ext cx="255600" cy="115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343640" y="3211560"/>
              <a:ext cx="689040" cy="139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99280" y="3132000"/>
              <a:ext cx="88920" cy="1447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418440" y="3211560"/>
              <a:ext cx="188640" cy="115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136000" y="3710160"/>
              <a:ext cx="304560" cy="1364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70408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653160" y="3711600"/>
              <a:ext cx="290520" cy="1238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70408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326360" y="3711600"/>
              <a:ext cx="689040" cy="139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70408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" name=""/>
            <p:cNvGrpSpPr/>
            <p:nvPr/>
          </p:nvGrpSpPr>
          <p:grpSpPr>
            <a:xfrm>
              <a:off x="8002440" y="3048120"/>
              <a:ext cx="87480" cy="276120"/>
              <a:chOff x="8002440" y="3048120"/>
              <a:chExt cx="87480" cy="276120"/>
            </a:xfrm>
          </p:grpSpPr>
          <p:sp>
            <p:nvSpPr>
              <p:cNvPr id="1023" name=""/>
              <p:cNvSpPr/>
              <p:nvPr/>
            </p:nvSpPr>
            <p:spPr>
              <a:xfrm>
                <a:off x="8002440" y="3061080"/>
                <a:ext cx="43920" cy="2631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046000" y="3048120"/>
                <a:ext cx="43920" cy="2631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8067600" y="3637080"/>
              <a:ext cx="88920" cy="1429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6578640" y="3057480"/>
              <a:ext cx="87120" cy="274680"/>
              <a:chOff x="6578640" y="3057480"/>
              <a:chExt cx="87120" cy="274680"/>
            </a:xfrm>
          </p:grpSpPr>
          <p:sp>
            <p:nvSpPr>
              <p:cNvPr id="1027" name=""/>
              <p:cNvSpPr/>
              <p:nvPr/>
            </p:nvSpPr>
            <p:spPr>
              <a:xfrm>
                <a:off x="6578640" y="3070440"/>
                <a:ext cx="43560" cy="2617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621840" y="3057480"/>
                <a:ext cx="43920" cy="2617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6400800" y="3711600"/>
              <a:ext cx="189000" cy="115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70408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7981920" y="3629160"/>
              <a:ext cx="85680" cy="276120"/>
              <a:chOff x="7981920" y="3629160"/>
              <a:chExt cx="85680" cy="276120"/>
            </a:xfrm>
          </p:grpSpPr>
          <p:sp>
            <p:nvSpPr>
              <p:cNvPr id="1031" name=""/>
              <p:cNvSpPr/>
              <p:nvPr/>
            </p:nvSpPr>
            <p:spPr>
              <a:xfrm>
                <a:off x="7981920" y="3642120"/>
                <a:ext cx="42840" cy="2631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024400" y="3629160"/>
                <a:ext cx="43200" cy="2631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6558120" y="3638520"/>
              <a:ext cx="85680" cy="273240"/>
              <a:chOff x="6558120" y="3638520"/>
              <a:chExt cx="85680" cy="273240"/>
            </a:xfrm>
          </p:grpSpPr>
          <p:sp>
            <p:nvSpPr>
              <p:cNvPr id="1034" name=""/>
              <p:cNvSpPr/>
              <p:nvPr/>
            </p:nvSpPr>
            <p:spPr>
              <a:xfrm>
                <a:off x="6558120" y="3651480"/>
                <a:ext cx="42840" cy="2602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600600" y="3638520"/>
                <a:ext cx="43200" cy="2602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8070840" y="4681440"/>
              <a:ext cx="304920" cy="138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996240" y="5081760"/>
              <a:ext cx="255600" cy="123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61200" y="4683240"/>
              <a:ext cx="689040" cy="139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16840" y="4603680"/>
              <a:ext cx="88920" cy="1443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745320" y="5081760"/>
              <a:ext cx="189000" cy="123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1" name=""/>
            <p:cNvGrpSpPr/>
            <p:nvPr/>
          </p:nvGrpSpPr>
          <p:grpSpPr>
            <a:xfrm>
              <a:off x="7920000" y="4519440"/>
              <a:ext cx="85680" cy="276480"/>
              <a:chOff x="7920000" y="4519440"/>
              <a:chExt cx="85680" cy="276480"/>
            </a:xfrm>
          </p:grpSpPr>
          <p:sp>
            <p:nvSpPr>
              <p:cNvPr id="1042" name=""/>
              <p:cNvSpPr/>
              <p:nvPr/>
            </p:nvSpPr>
            <p:spPr>
              <a:xfrm>
                <a:off x="7920000" y="4532400"/>
                <a:ext cx="42840" cy="2635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962480" y="4519440"/>
                <a:ext cx="43200" cy="2635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6904080" y="4927680"/>
              <a:ext cx="87120" cy="291600"/>
              <a:chOff x="6904080" y="4927680"/>
              <a:chExt cx="87120" cy="291600"/>
            </a:xfrm>
          </p:grpSpPr>
          <p:sp>
            <p:nvSpPr>
              <p:cNvPr id="1045" name=""/>
              <p:cNvSpPr/>
              <p:nvPr/>
            </p:nvSpPr>
            <p:spPr>
              <a:xfrm>
                <a:off x="6904080" y="4941360"/>
                <a:ext cx="43560" cy="2779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47280" y="4927680"/>
                <a:ext cx="43920" cy="2779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8037360" y="5062680"/>
              <a:ext cx="303480" cy="137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70408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226280" y="5064120"/>
              <a:ext cx="690480" cy="139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70408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969320" y="4989600"/>
              <a:ext cx="87120" cy="14436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7881840" y="4981680"/>
              <a:ext cx="87480" cy="276120"/>
              <a:chOff x="7881840" y="4981680"/>
              <a:chExt cx="87480" cy="276120"/>
            </a:xfrm>
          </p:grpSpPr>
          <p:sp>
            <p:nvSpPr>
              <p:cNvPr id="1051" name=""/>
              <p:cNvSpPr/>
              <p:nvPr/>
            </p:nvSpPr>
            <p:spPr>
              <a:xfrm>
                <a:off x="7881840" y="4994640"/>
                <a:ext cx="43920" cy="2631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925400" y="4981680"/>
                <a:ext cx="43920" cy="2631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8539200" y="45169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er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39200" y="48981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er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5335200">
              <a:off x="6933960" y="4114440"/>
              <a:ext cx="533160" cy="22860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219320" y="2514600"/>
            <a:ext cx="748800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15)(q11q13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ted 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22)(q11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ted 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c(X)(p11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odicen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8p)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/dup/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r(8)(pterp23.1::p23.2pter);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/dup/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(8)(p23.1p23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5)(q24q26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(11;22)(11q23;22q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iarragiamenti costituzion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05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1066680" y="3809880"/>
            <a:ext cx="8001000" cy="1295640"/>
          </a:xfrm>
          <a:prstGeom prst="rect">
            <a:avLst/>
          </a:prstGeom>
          <a:solidFill>
            <a:srgbClr val="ff00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5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06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1" name="" descr=""/>
          <p:cNvPicPr/>
          <p:nvPr/>
        </p:nvPicPr>
        <p:blipFill>
          <a:blip r:embed="rId2"/>
          <a:stretch/>
        </p:blipFill>
        <p:spPr>
          <a:xfrm>
            <a:off x="1066680" y="1403280"/>
            <a:ext cx="7696440" cy="5694480"/>
          </a:xfrm>
          <a:prstGeom prst="rect">
            <a:avLst/>
          </a:prstGeom>
          <a:ln w="0">
            <a:noFill/>
          </a:ln>
        </p:spPr>
      </p:pic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Olfactory receptor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581280" y="1447920"/>
            <a:ext cx="504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OR ipotizzati nel genoma umano: 1000 tra geni e psuedog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657600" y="48006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a maggior parte sono organizzati in cluster di 10 o piu’ memb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07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619308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Il braccio corto del cromosoma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197080" cy="132372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1273320" cy="1260360"/>
          </a:xfrm>
          <a:prstGeom prst="rect">
            <a:avLst/>
          </a:prstGeom>
          <a:ln w="0">
            <a:noFill/>
          </a:ln>
        </p:spPr>
      </p:pic>
      <p:grpSp>
        <p:nvGrpSpPr>
          <p:cNvPr id="1084" name=""/>
          <p:cNvGrpSpPr/>
          <p:nvPr/>
        </p:nvGrpSpPr>
        <p:grpSpPr>
          <a:xfrm>
            <a:off x="5178600" y="1905120"/>
            <a:ext cx="307800" cy="2743200"/>
            <a:chOff x="5178600" y="1905120"/>
            <a:chExt cx="307800" cy="2743200"/>
          </a:xfrm>
        </p:grpSpPr>
        <p:sp>
          <p:nvSpPr>
            <p:cNvPr id="1085" name=""/>
            <p:cNvSpPr/>
            <p:nvPr/>
          </p:nvSpPr>
          <p:spPr>
            <a:xfrm>
              <a:off x="5181840" y="3124080"/>
              <a:ext cx="301680" cy="239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81840" y="4527720"/>
              <a:ext cx="301680" cy="12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181840" y="4449600"/>
              <a:ext cx="301680" cy="12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181840" y="4206960"/>
              <a:ext cx="301680" cy="288720"/>
            </a:xfrm>
            <a:prstGeom prst="can">
              <a:avLst>
                <a:gd name="adj" fmla="val 7694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181840" y="4062240"/>
              <a:ext cx="301680" cy="176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181840" y="3938760"/>
              <a:ext cx="301680" cy="176040"/>
            </a:xfrm>
            <a:prstGeom prst="can">
              <a:avLst>
                <a:gd name="adj" fmla="val 5833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181840" y="3863880"/>
              <a:ext cx="301680" cy="111240"/>
            </a:xfrm>
            <a:prstGeom prst="can">
              <a:avLst>
                <a:gd name="adj" fmla="val 10064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181840" y="3808440"/>
              <a:ext cx="301680" cy="76320"/>
            </a:xfrm>
            <a:prstGeom prst="can">
              <a:avLst>
                <a:gd name="adj" fmla="val 3125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181840" y="3641760"/>
              <a:ext cx="301680" cy="168120"/>
            </a:xfrm>
            <a:prstGeom prst="can">
              <a:avLst>
                <a:gd name="adj" fmla="val 10416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181840" y="3322800"/>
              <a:ext cx="301680" cy="3348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181840" y="3036960"/>
              <a:ext cx="301680" cy="171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232600" y="2832120"/>
              <a:ext cx="200160" cy="241200"/>
            </a:xfrm>
            <a:prstGeom prst="ca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181840" y="2593800"/>
              <a:ext cx="301680" cy="292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181840" y="2452680"/>
              <a:ext cx="301680" cy="217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181840" y="2311560"/>
              <a:ext cx="301680" cy="212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181840" y="2097000"/>
              <a:ext cx="301680" cy="265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178600" y="1905120"/>
              <a:ext cx="307800" cy="287280"/>
            </a:xfrm>
            <a:prstGeom prst="can">
              <a:avLst>
                <a:gd name="adj" fmla="val 16666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4267080" y="1636560"/>
            <a:ext cx="301680" cy="3011760"/>
            <a:chOff x="4267080" y="1636560"/>
            <a:chExt cx="301680" cy="3011760"/>
          </a:xfrm>
        </p:grpSpPr>
        <p:sp>
          <p:nvSpPr>
            <p:cNvPr id="1103" name=""/>
            <p:cNvSpPr/>
            <p:nvPr/>
          </p:nvSpPr>
          <p:spPr>
            <a:xfrm>
              <a:off x="4267080" y="3124080"/>
              <a:ext cx="301680" cy="239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267080" y="4527720"/>
              <a:ext cx="301680" cy="12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267080" y="4449600"/>
              <a:ext cx="301680" cy="12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267080" y="4206960"/>
              <a:ext cx="301680" cy="288720"/>
            </a:xfrm>
            <a:prstGeom prst="can">
              <a:avLst>
                <a:gd name="adj" fmla="val 7694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67080" y="4062240"/>
              <a:ext cx="301680" cy="176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267080" y="3938760"/>
              <a:ext cx="301680" cy="176040"/>
            </a:xfrm>
            <a:prstGeom prst="can">
              <a:avLst>
                <a:gd name="adj" fmla="val 5833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267080" y="3863880"/>
              <a:ext cx="301680" cy="111240"/>
            </a:xfrm>
            <a:prstGeom prst="can">
              <a:avLst>
                <a:gd name="adj" fmla="val 10064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267080" y="3808440"/>
              <a:ext cx="301680" cy="76320"/>
            </a:xfrm>
            <a:prstGeom prst="can">
              <a:avLst>
                <a:gd name="adj" fmla="val 3125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67080" y="3641760"/>
              <a:ext cx="301680" cy="168120"/>
            </a:xfrm>
            <a:prstGeom prst="can">
              <a:avLst>
                <a:gd name="adj" fmla="val 10416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267080" y="3322800"/>
              <a:ext cx="301680" cy="3348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267080" y="3036960"/>
              <a:ext cx="301680" cy="171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317840" y="2832120"/>
              <a:ext cx="199800" cy="24120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67080" y="2593800"/>
              <a:ext cx="301680" cy="292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080" y="2452680"/>
              <a:ext cx="301680" cy="217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67080" y="2311560"/>
              <a:ext cx="301680" cy="212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267080" y="2097000"/>
              <a:ext cx="301680" cy="265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267080" y="1992240"/>
              <a:ext cx="301680" cy="217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267080" y="1851120"/>
              <a:ext cx="301680" cy="212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267080" y="1636560"/>
              <a:ext cx="301680" cy="265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6019920" y="2362320"/>
            <a:ext cx="304200" cy="380880"/>
            <a:chOff x="6019920" y="2362320"/>
            <a:chExt cx="304200" cy="380880"/>
          </a:xfrm>
        </p:grpSpPr>
        <p:sp>
          <p:nvSpPr>
            <p:cNvPr id="1123" name=""/>
            <p:cNvSpPr/>
            <p:nvPr/>
          </p:nvSpPr>
          <p:spPr>
            <a:xfrm>
              <a:off x="6019920" y="2554200"/>
              <a:ext cx="301320" cy="189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22800" y="2362320"/>
              <a:ext cx="301320" cy="287280"/>
            </a:xfrm>
            <a:prstGeom prst="can">
              <a:avLst>
                <a:gd name="adj" fmla="val 16666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5" name="" descr=""/>
          <p:cNvPicPr/>
          <p:nvPr/>
        </p:nvPicPr>
        <p:blipFill>
          <a:blip r:embed="rId6"/>
          <a:stretch/>
        </p:blipFill>
        <p:spPr>
          <a:xfrm>
            <a:off x="2819520" y="2133720"/>
            <a:ext cx="1031760" cy="129204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7"/>
          <a:stretch/>
        </p:blipFill>
        <p:spPr>
          <a:xfrm>
            <a:off x="7924680" y="2057400"/>
            <a:ext cx="1130400" cy="129240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123480" y="5301360"/>
            <a:ext cx="9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BP sono costanti in entrambi i casi e coinvolgono i cluster degli OR presenti su 8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due cromosomi riarrangiati sono i prodotti reciproci dello stesso ev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060200" y="36788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v dup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875560" y="35265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r(8)(pterp23.1::p23.2pt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346200" y="47455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v dup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911480" y="47455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rom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05880" y="6193440"/>
            <a:ext cx="80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 tutti i casi esaminati :21(inv dup8) e 2 der(8), l’origine era mater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162080" y="114192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iglio S.et al. Am.J.Hum.Genet. 68:874-883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13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619308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Il braccio corto del cromosoma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162080" y="114192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iglio S.et al. Am.J.Hum.Genet. 68:874-883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6553440" cy="543564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sp>
        <p:nvSpPr>
          <p:cNvPr id="1143" name=""/>
          <p:cNvSpPr/>
          <p:nvPr/>
        </p:nvSpPr>
        <p:spPr>
          <a:xfrm>
            <a:off x="120600" y="2887200"/>
            <a:ext cx="298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ig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iosi ma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14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6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619308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Il braccio corto del cromosoma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162080" y="114192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iglio S.et al. Am.J.Hum.Genet. 68:874-883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2"/>
          <a:stretch/>
        </p:blipFill>
        <p:spPr>
          <a:xfrm>
            <a:off x="2819520" y="1828800"/>
            <a:ext cx="7010280" cy="5165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153" name=""/>
          <p:cNvSpPr/>
          <p:nvPr/>
        </p:nvSpPr>
        <p:spPr>
          <a:xfrm>
            <a:off x="344160" y="1906200"/>
            <a:ext cx="190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  s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ne agli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7080" y="3025440"/>
            <a:ext cx="275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6% della popol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uropea e’ eterozig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% omozig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63800" y="45802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limorf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6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15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8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93880" y="533520"/>
            <a:ext cx="6192720" cy="482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Il braccio corto del cromosoma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162080" y="101196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iglio S.et al. Am.J.Hum.Genet. 68:874-883,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4" name="" descr=""/>
          <p:cNvPicPr/>
          <p:nvPr/>
        </p:nvPicPr>
        <p:blipFill>
          <a:blip r:embed="rId2"/>
          <a:stretch/>
        </p:blipFill>
        <p:spPr>
          <a:xfrm>
            <a:off x="3886200" y="1407960"/>
            <a:ext cx="5562720" cy="280512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271080" y="3096000"/>
            <a:ext cx="338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li scambi sono regola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no alla regione degli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3"/>
          <a:stretch/>
        </p:blipFill>
        <p:spPr>
          <a:xfrm>
            <a:off x="3886200" y="4371840"/>
            <a:ext cx="5638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16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3" name="" descr=""/>
          <p:cNvPicPr/>
          <p:nvPr/>
        </p:nvPicPr>
        <p:blipFill>
          <a:blip r:embed="rId2"/>
          <a:stretch/>
        </p:blipFill>
        <p:spPr>
          <a:xfrm>
            <a:off x="1066680" y="1403280"/>
            <a:ext cx="7696440" cy="5694480"/>
          </a:xfrm>
          <a:prstGeom prst="rect">
            <a:avLst/>
          </a:prstGeom>
          <a:ln w="0">
            <a:noFill/>
          </a:ln>
        </p:spPr>
      </p:pic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Olfactory receptor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581280" y="1447920"/>
            <a:ext cx="504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OR ipotizzati nel genoma umano: 1000 tra geni e psuedog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657600" y="48006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a maggior parte sono organizzati in cluster di 10 o piu’ memb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9320" y="2514600"/>
            <a:ext cx="748800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15)(q11q13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ted 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22)(q11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ted 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c(X)(p11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odicen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8p)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/dup/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r(8)(pterp23.1::p23.2pter);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/dup/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(8)(p23.1p23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5)(q24q26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(11;22)(11q23;22q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iarragiamenti costituzio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5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914400" y="2577960"/>
            <a:ext cx="8001000" cy="838440"/>
          </a:xfrm>
          <a:prstGeom prst="rect">
            <a:avLst/>
          </a:prstGeom>
          <a:solidFill>
            <a:srgbClr val="ff00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2944800" y="2075040"/>
            <a:ext cx="1969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33520" y="1219320"/>
            <a:ext cx="86868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Heterozygous submicroscopic inversions involving olfactory receptor-gene clusters mediate the recurrent t(4;8)(p16;p23) translocation .    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Giglio S.et al.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. J. Hum. Genet. 71:276-285 (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(4;8)(p16;p2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18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48960" y="2739600"/>
            <a:ext cx="945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che in questo caso l’origine era la meiosi mater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che in questo caso le madri erano eterozigoti per la regione compre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a i cluster degli OR  del cromosoma 4 e del cromosoma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7" name="tras%204%3B8" descr=""/>
          <p:cNvPicPr/>
          <p:nvPr/>
        </p:nvPicPr>
        <p:blipFill>
          <a:blip r:embed="rId2"/>
          <a:stretch/>
        </p:blipFill>
        <p:spPr>
          <a:xfrm>
            <a:off x="4038480" y="3886200"/>
            <a:ext cx="5715000" cy="330984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>
            <a:off x="270000" y="398376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,5% eterozigoti per il crom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25440" y="4516920"/>
            <a:ext cx="34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6% eterozigoti per il crom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91600" y="517284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~2.5% doppie eterozigo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40880" y="914400"/>
            <a:ext cx="8393400" cy="977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ONCLUS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304920" y="1981080"/>
            <a:ext cx="9067680" cy="2206800"/>
            <a:chOff x="304920" y="1981080"/>
            <a:chExt cx="9067680" cy="2206800"/>
          </a:xfrm>
        </p:grpSpPr>
        <p:sp>
          <p:nvSpPr>
            <p:cNvPr id="1193" name=""/>
            <p:cNvSpPr/>
            <p:nvPr/>
          </p:nvSpPr>
          <p:spPr>
            <a:xfrm>
              <a:off x="1981080" y="1981080"/>
              <a:ext cx="7391520" cy="16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omic Sans MS"/>
                </a:rPr>
                <a:t>Particolari strutture genomiche predispongono all’insorgenza di riarrangiamenti genomici e cromosomici, in meiosi e/o  in mitosi</a:t>
              </a:r>
              <a:r>
                <a:rPr b="0" lang="en-GB" sz="2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4" name="" descr=""/>
            <p:cNvPicPr/>
            <p:nvPr/>
          </p:nvPicPr>
          <p:blipFill>
            <a:blip r:embed="rId1"/>
            <a:stretch/>
          </p:blipFill>
          <p:spPr>
            <a:xfrm>
              <a:off x="304920" y="2057400"/>
              <a:ext cx="1579320" cy="213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5" name=""/>
          <p:cNvGrpSpPr/>
          <p:nvPr/>
        </p:nvGrpSpPr>
        <p:grpSpPr>
          <a:xfrm>
            <a:off x="533520" y="4724280"/>
            <a:ext cx="9067680" cy="1979640"/>
            <a:chOff x="533520" y="4724280"/>
            <a:chExt cx="9067680" cy="1979640"/>
          </a:xfrm>
        </p:grpSpPr>
        <p:sp>
          <p:nvSpPr>
            <p:cNvPr id="1196" name=""/>
            <p:cNvSpPr/>
            <p:nvPr/>
          </p:nvSpPr>
          <p:spPr>
            <a:xfrm>
              <a:off x="2971800" y="4724280"/>
              <a:ext cx="6629400" cy="12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omic Sans MS"/>
                </a:rPr>
                <a:t>La variabilita’ individuale  potrebbe essere il principale fattore di suscettibilita’  alla loro  insorgenz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7" name="" descr=""/>
            <p:cNvPicPr/>
            <p:nvPr/>
          </p:nvPicPr>
          <p:blipFill>
            <a:blip r:embed="rId2"/>
            <a:stretch/>
          </p:blipFill>
          <p:spPr>
            <a:xfrm>
              <a:off x="533520" y="4876920"/>
              <a:ext cx="1738080" cy="182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8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199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0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576360" y="3209760"/>
            <a:ext cx="8076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289320" y="3025800"/>
            <a:ext cx="196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1219320" y="1143000"/>
            <a:ext cx="6213240" cy="2431440"/>
            <a:chOff x="1219320" y="1143000"/>
            <a:chExt cx="6213240" cy="2431440"/>
          </a:xfrm>
        </p:grpSpPr>
        <p:sp>
          <p:nvSpPr>
            <p:cNvPr id="1207" name=""/>
            <p:cNvSpPr/>
            <p:nvPr/>
          </p:nvSpPr>
          <p:spPr>
            <a:xfrm>
              <a:off x="2962800" y="1143000"/>
              <a:ext cx="446976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DISORDINI GENOMI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75000"/>
                <a:buFont typeface="Monotype Sorts" charset="2"/>
                <a:buChar char="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75000"/>
                <a:buFont typeface="Monotype Sorts" charset="2"/>
                <a:buChar char="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Caratteri mendelia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75000"/>
                <a:buFont typeface="Monotype Sorts" charset="2"/>
                <a:buChar char="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indromi da geni contigu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75000"/>
                <a:buFont typeface="Monotype Sorts" charset="2"/>
                <a:buChar char="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75000"/>
                <a:buFont typeface="Monotype Sorts" charset="2"/>
                <a:buChar char="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Riarrangiamenti cromosomi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8" name="" descr=""/>
            <p:cNvPicPr/>
            <p:nvPr/>
          </p:nvPicPr>
          <p:blipFill>
            <a:blip r:embed="rId1"/>
            <a:stretch/>
          </p:blipFill>
          <p:spPr>
            <a:xfrm>
              <a:off x="1219320" y="1782720"/>
              <a:ext cx="1752480" cy="15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9" name=""/>
          <p:cNvGrpSpPr/>
          <p:nvPr/>
        </p:nvGrpSpPr>
        <p:grpSpPr>
          <a:xfrm>
            <a:off x="762120" y="3733920"/>
            <a:ext cx="8640000" cy="844560"/>
            <a:chOff x="762120" y="3733920"/>
            <a:chExt cx="8640000" cy="844560"/>
          </a:xfrm>
        </p:grpSpPr>
        <p:sp>
          <p:nvSpPr>
            <p:cNvPr id="1210" name=""/>
            <p:cNvSpPr/>
            <p:nvPr/>
          </p:nvSpPr>
          <p:spPr>
            <a:xfrm>
              <a:off x="2143800" y="3747960"/>
              <a:ext cx="725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SISTONO ALTRE STRUTTURE GENOMICHE C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OSSONO ORIGINARE FENOTIPI PATOLOGICI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1" name="" descr=""/>
            <p:cNvPicPr/>
            <p:nvPr/>
          </p:nvPicPr>
          <p:blipFill>
            <a:blip r:embed="rId2"/>
            <a:stretch/>
          </p:blipFill>
          <p:spPr>
            <a:xfrm>
              <a:off x="762120" y="3733920"/>
              <a:ext cx="861840" cy="84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2" name=""/>
          <p:cNvGrpSpPr/>
          <p:nvPr/>
        </p:nvGrpSpPr>
        <p:grpSpPr>
          <a:xfrm>
            <a:off x="304920" y="6105600"/>
            <a:ext cx="9088920" cy="906480"/>
            <a:chOff x="304920" y="6105600"/>
            <a:chExt cx="9088920" cy="906480"/>
          </a:xfrm>
        </p:grpSpPr>
        <p:sp>
          <p:nvSpPr>
            <p:cNvPr id="1213" name=""/>
            <p:cNvSpPr/>
            <p:nvPr/>
          </p:nvSpPr>
          <p:spPr>
            <a:xfrm>
              <a:off x="1160280" y="6186600"/>
              <a:ext cx="823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i sono sequenze polimorfiche che finora abbia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nsiderato neutre e che potrebbero non essere tali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4" name="" descr=""/>
            <p:cNvPicPr/>
            <p:nvPr/>
          </p:nvPicPr>
          <p:blipFill>
            <a:blip r:embed="rId3"/>
            <a:stretch/>
          </p:blipFill>
          <p:spPr>
            <a:xfrm>
              <a:off x="304920" y="6105600"/>
              <a:ext cx="861840" cy="84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M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304920" y="4830480"/>
            <a:ext cx="9132480" cy="1191240"/>
            <a:chOff x="304920" y="4830480"/>
            <a:chExt cx="9132480" cy="1191240"/>
          </a:xfrm>
        </p:grpSpPr>
        <p:sp>
          <p:nvSpPr>
            <p:cNvPr id="1217" name=""/>
            <p:cNvSpPr/>
            <p:nvPr/>
          </p:nvSpPr>
          <p:spPr>
            <a:xfrm>
              <a:off x="1049760" y="4830480"/>
              <a:ext cx="838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i sono nel genoma umano altre regioni ripetute 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n contengono geni e che potrebbero innescare alt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tipi di mutazioni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8" name="" descr=""/>
            <p:cNvPicPr/>
            <p:nvPr/>
          </p:nvPicPr>
          <p:blipFill>
            <a:blip r:embed="rId4"/>
            <a:stretch/>
          </p:blipFill>
          <p:spPr>
            <a:xfrm>
              <a:off x="304920" y="4932360"/>
              <a:ext cx="861840" cy="84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9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220" name="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1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v dup(22) Cat-Eye Syndrome (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6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1880" y="685800"/>
            <a:ext cx="1219320" cy="798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419720" y="3664080"/>
            <a:ext cx="30456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578280"/>
            <a:ext cx="518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riotipo del laboratorio Prof.ssa O.Zuffar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45400" y="2562120"/>
            <a:ext cx="469080" cy="2168280"/>
            <a:chOff x="6845400" y="2562120"/>
            <a:chExt cx="469080" cy="2168280"/>
          </a:xfrm>
        </p:grpSpPr>
        <p:sp>
          <p:nvSpPr>
            <p:cNvPr id="70" name=""/>
            <p:cNvSpPr/>
            <p:nvPr/>
          </p:nvSpPr>
          <p:spPr>
            <a:xfrm>
              <a:off x="6845400" y="4580640"/>
              <a:ext cx="464400" cy="149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45400" y="447552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45400" y="436284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45400" y="425772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45400" y="3961800"/>
              <a:ext cx="464400" cy="358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45400" y="3799440"/>
              <a:ext cx="464400" cy="25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5400" y="3622320"/>
              <a:ext cx="464400" cy="25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45400" y="353700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5400" y="343188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5400" y="3254400"/>
              <a:ext cx="464400" cy="25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22800" y="3093840"/>
              <a:ext cx="309600" cy="177120"/>
            </a:xfrm>
            <a:prstGeom prst="ca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50080" y="2562120"/>
              <a:ext cx="464400" cy="177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0080" y="2885040"/>
              <a:ext cx="464400" cy="253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07680" y="2790720"/>
              <a:ext cx="348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07680" y="2860920"/>
              <a:ext cx="34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683480" y="2575080"/>
            <a:ext cx="469080" cy="2167920"/>
            <a:chOff x="7683480" y="2575080"/>
            <a:chExt cx="469080" cy="2167920"/>
          </a:xfrm>
        </p:grpSpPr>
        <p:sp>
          <p:nvSpPr>
            <p:cNvPr id="86" name=""/>
            <p:cNvSpPr/>
            <p:nvPr/>
          </p:nvSpPr>
          <p:spPr>
            <a:xfrm>
              <a:off x="7683480" y="4593240"/>
              <a:ext cx="464400" cy="149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83480" y="448812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83480" y="437544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83480" y="427032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83480" y="3974760"/>
              <a:ext cx="464400" cy="358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83480" y="3812040"/>
              <a:ext cx="464400" cy="25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83480" y="3634920"/>
              <a:ext cx="464400" cy="25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83480" y="354996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83480" y="3444840"/>
              <a:ext cx="46440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83480" y="3267360"/>
              <a:ext cx="464400" cy="25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60880" y="3106800"/>
              <a:ext cx="309600" cy="177120"/>
            </a:xfrm>
            <a:prstGeom prst="ca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88160" y="2575080"/>
              <a:ext cx="464400" cy="177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88160" y="2897640"/>
              <a:ext cx="464400" cy="253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45760" y="2803680"/>
              <a:ext cx="348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45760" y="2873880"/>
              <a:ext cx="34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8750160" y="2597040"/>
            <a:ext cx="469800" cy="1019160"/>
            <a:chOff x="8750160" y="2597040"/>
            <a:chExt cx="469800" cy="1019160"/>
          </a:xfrm>
        </p:grpSpPr>
        <p:sp>
          <p:nvSpPr>
            <p:cNvPr id="102" name=""/>
            <p:cNvSpPr/>
            <p:nvPr/>
          </p:nvSpPr>
          <p:spPr>
            <a:xfrm>
              <a:off x="8750160" y="3467160"/>
              <a:ext cx="465120" cy="149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750160" y="3289320"/>
              <a:ext cx="465120" cy="253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27920" y="3128760"/>
              <a:ext cx="309600" cy="17784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54840" y="2597040"/>
              <a:ext cx="465120" cy="177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54840" y="2921040"/>
              <a:ext cx="465120" cy="252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13520" y="2825640"/>
              <a:ext cx="347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813520" y="2895480"/>
              <a:ext cx="3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8750520" y="3558960"/>
            <a:ext cx="469800" cy="1019160"/>
            <a:chOff x="8750520" y="3558960"/>
            <a:chExt cx="469800" cy="1019160"/>
          </a:xfrm>
        </p:grpSpPr>
        <p:sp>
          <p:nvSpPr>
            <p:cNvPr id="110" name=""/>
            <p:cNvSpPr/>
            <p:nvPr/>
          </p:nvSpPr>
          <p:spPr>
            <a:xfrm rot="10800000">
              <a:off x="8755200" y="3558960"/>
              <a:ext cx="465120" cy="149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800000">
              <a:off x="8755200" y="3632040"/>
              <a:ext cx="465120" cy="253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70408"/>
                </a:gs>
                <a:gs pos="50000">
                  <a:srgbClr val="ffffff"/>
                </a:gs>
                <a:gs pos="100000">
                  <a:srgbClr val="8704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8832960" y="3868560"/>
              <a:ext cx="309600" cy="177840"/>
            </a:xfrm>
            <a:prstGeom prst="can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800000">
              <a:off x="8750520" y="4400280"/>
              <a:ext cx="465120" cy="177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800000">
              <a:off x="8750520" y="4001760"/>
              <a:ext cx="465120" cy="252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809200" y="4349520"/>
              <a:ext cx="347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809200" y="4279680"/>
              <a:ext cx="3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248520" y="3054240"/>
            <a:ext cx="533160" cy="457200"/>
          </a:xfrm>
          <a:prstGeom prst="lightningBol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93560" y="34189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2q1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304920" y="1398600"/>
            <a:ext cx="5486400" cy="4992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733920" y="5867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02440" y="4976280"/>
            <a:ext cx="30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omosoma 22      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62360" y="457200"/>
            <a:ext cx="4190760" cy="990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v dup(15)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2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17080" y="756000"/>
            <a:ext cx="35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e tipi di inv dup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08200" y="1832040"/>
            <a:ext cx="469440" cy="3882960"/>
            <a:chOff x="808200" y="1832040"/>
            <a:chExt cx="469440" cy="3882960"/>
          </a:xfrm>
        </p:grpSpPr>
        <p:sp>
          <p:nvSpPr>
            <p:cNvPr id="131" name=""/>
            <p:cNvSpPr/>
            <p:nvPr/>
          </p:nvSpPr>
          <p:spPr>
            <a:xfrm>
              <a:off x="808200" y="5591160"/>
              <a:ext cx="464760" cy="123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8200" y="5475240"/>
              <a:ext cx="46476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08200" y="5235480"/>
              <a:ext cx="464760" cy="292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8200" y="4952880"/>
              <a:ext cx="464760" cy="384120"/>
            </a:xfrm>
            <a:prstGeom prst="can">
              <a:avLst>
                <a:gd name="adj" fmla="val 18597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8200" y="4651200"/>
              <a:ext cx="464760" cy="384120"/>
            </a:xfrm>
            <a:prstGeom prst="can">
              <a:avLst>
                <a:gd name="adj" fmla="val 18597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200" y="4429080"/>
              <a:ext cx="464760" cy="298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8200" y="4194000"/>
              <a:ext cx="464760" cy="325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8200" y="4089240"/>
              <a:ext cx="464760" cy="181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8200" y="4003560"/>
              <a:ext cx="46476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8200" y="3711600"/>
              <a:ext cx="464760" cy="355680"/>
            </a:xfrm>
            <a:prstGeom prst="can">
              <a:avLst>
                <a:gd name="adj" fmla="val 17856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8200" y="3632040"/>
              <a:ext cx="46476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8200" y="3330360"/>
              <a:ext cx="46476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8200" y="3076560"/>
              <a:ext cx="46476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8200" y="2822400"/>
              <a:ext cx="46476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8200" y="2759040"/>
              <a:ext cx="464760" cy="149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8200" y="2619360"/>
              <a:ext cx="464760" cy="174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08200" y="1832040"/>
              <a:ext cx="469440" cy="838080"/>
              <a:chOff x="808200" y="1832040"/>
              <a:chExt cx="469440" cy="838080"/>
            </a:xfrm>
          </p:grpSpPr>
          <p:sp>
            <p:nvSpPr>
              <p:cNvPr id="148" name=""/>
              <p:cNvSpPr/>
              <p:nvPr/>
            </p:nvSpPr>
            <p:spPr>
              <a:xfrm>
                <a:off x="885600" y="2363760"/>
                <a:ext cx="309240" cy="1778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2880" y="1832040"/>
                <a:ext cx="464760" cy="177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12880" y="2156040"/>
                <a:ext cx="464760" cy="252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71560" y="2060640"/>
                <a:ext cx="347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71560" y="2130480"/>
                <a:ext cx="34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8200" y="2517840"/>
                <a:ext cx="464760" cy="1522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709640" y="1832040"/>
            <a:ext cx="469440" cy="3882960"/>
            <a:chOff x="1709640" y="1832040"/>
            <a:chExt cx="469440" cy="3882960"/>
          </a:xfrm>
        </p:grpSpPr>
        <p:sp>
          <p:nvSpPr>
            <p:cNvPr id="155" name=""/>
            <p:cNvSpPr/>
            <p:nvPr/>
          </p:nvSpPr>
          <p:spPr>
            <a:xfrm>
              <a:off x="1709640" y="5591160"/>
              <a:ext cx="465120" cy="123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09640" y="5475240"/>
              <a:ext cx="46512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09640" y="5235480"/>
              <a:ext cx="465120" cy="292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09640" y="4952880"/>
              <a:ext cx="465120" cy="384120"/>
            </a:xfrm>
            <a:prstGeom prst="can">
              <a:avLst>
                <a:gd name="adj" fmla="val 18597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09640" y="4651200"/>
              <a:ext cx="465120" cy="384120"/>
            </a:xfrm>
            <a:prstGeom prst="can">
              <a:avLst>
                <a:gd name="adj" fmla="val 18597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09640" y="4429080"/>
              <a:ext cx="465120" cy="298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09640" y="4194000"/>
              <a:ext cx="465120" cy="325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09640" y="4089240"/>
              <a:ext cx="465120" cy="181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09640" y="4003560"/>
              <a:ext cx="46512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09640" y="3711600"/>
              <a:ext cx="465120" cy="355680"/>
            </a:xfrm>
            <a:prstGeom prst="can">
              <a:avLst>
                <a:gd name="adj" fmla="val 17856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9640" y="3632040"/>
              <a:ext cx="46512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09640" y="3330360"/>
              <a:ext cx="46512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09640" y="3076560"/>
              <a:ext cx="46512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09640" y="2822400"/>
              <a:ext cx="46512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09640" y="2759040"/>
              <a:ext cx="465120" cy="149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09640" y="2619360"/>
              <a:ext cx="465120" cy="174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709640" y="1832040"/>
              <a:ext cx="469440" cy="838080"/>
              <a:chOff x="1709640" y="1832040"/>
              <a:chExt cx="469440" cy="838080"/>
            </a:xfrm>
          </p:grpSpPr>
          <p:sp>
            <p:nvSpPr>
              <p:cNvPr id="172" name=""/>
              <p:cNvSpPr/>
              <p:nvPr/>
            </p:nvSpPr>
            <p:spPr>
              <a:xfrm>
                <a:off x="1787040" y="2363760"/>
                <a:ext cx="309240" cy="1778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714320" y="1832040"/>
                <a:ext cx="464760" cy="177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14320" y="2156040"/>
                <a:ext cx="464760" cy="252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73000" y="2060640"/>
                <a:ext cx="347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73000" y="2130480"/>
                <a:ext cx="34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09640" y="2517840"/>
                <a:ext cx="464760" cy="1522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3005280" y="1832040"/>
            <a:ext cx="469440" cy="838080"/>
            <a:chOff x="3005280" y="1832040"/>
            <a:chExt cx="469440" cy="838080"/>
          </a:xfrm>
        </p:grpSpPr>
        <p:sp>
          <p:nvSpPr>
            <p:cNvPr id="179" name=""/>
            <p:cNvSpPr/>
            <p:nvPr/>
          </p:nvSpPr>
          <p:spPr>
            <a:xfrm>
              <a:off x="3082680" y="2363760"/>
              <a:ext cx="309240" cy="177840"/>
            </a:xfrm>
            <a:prstGeom prst="ca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09960" y="1832040"/>
              <a:ext cx="464760" cy="177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09960" y="2156040"/>
              <a:ext cx="464760" cy="252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68640" y="2060640"/>
              <a:ext cx="347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68640" y="2130480"/>
              <a:ext cx="34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5280" y="2517840"/>
              <a:ext cx="46476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005280" y="2581200"/>
            <a:ext cx="469440" cy="838080"/>
            <a:chOff x="3005280" y="2581200"/>
            <a:chExt cx="469440" cy="838080"/>
          </a:xfrm>
        </p:grpSpPr>
        <p:sp>
          <p:nvSpPr>
            <p:cNvPr id="186" name=""/>
            <p:cNvSpPr/>
            <p:nvPr/>
          </p:nvSpPr>
          <p:spPr>
            <a:xfrm rot="10800600">
              <a:off x="3088080" y="2709360"/>
              <a:ext cx="309240" cy="17784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800600">
              <a:off x="3005280" y="3241080"/>
              <a:ext cx="464760" cy="177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800600">
              <a:off x="3005280" y="2842560"/>
              <a:ext cx="464760" cy="252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064320" y="3190680"/>
              <a:ext cx="347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064320" y="3120840"/>
              <a:ext cx="34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600">
              <a:off x="3009960" y="2580840"/>
              <a:ext cx="46476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74680" y="2133720"/>
            <a:ext cx="533520" cy="457200"/>
          </a:xfrm>
          <a:prstGeom prst="lightningBol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17160" y="5357520"/>
            <a:ext cx="279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65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enotipo nor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800" y="2533320"/>
            <a:ext cx="7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5q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6495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riotipo del laboratorio Prof.ssa O.Zuffar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4800600" y="1523880"/>
            <a:ext cx="4979880" cy="46688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209680" y="46717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8,XX,+mar.+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240" y="589068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omosoma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43720" y="3604680"/>
            <a:ext cx="7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24680" y="220968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562360" y="457200"/>
            <a:ext cx="4190760" cy="990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v dup(15)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20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314880" y="1755720"/>
            <a:ext cx="469440" cy="961920"/>
            <a:chOff x="3314880" y="1755720"/>
            <a:chExt cx="469440" cy="961920"/>
          </a:xfrm>
        </p:grpSpPr>
        <p:sp>
          <p:nvSpPr>
            <p:cNvPr id="209" name=""/>
            <p:cNvSpPr/>
            <p:nvPr/>
          </p:nvSpPr>
          <p:spPr>
            <a:xfrm>
              <a:off x="3314880" y="2543040"/>
              <a:ext cx="464760" cy="174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3314880" y="1755720"/>
              <a:ext cx="469440" cy="838080"/>
              <a:chOff x="3314880" y="1755720"/>
              <a:chExt cx="469440" cy="838080"/>
            </a:xfrm>
          </p:grpSpPr>
          <p:sp>
            <p:nvSpPr>
              <p:cNvPr id="211" name=""/>
              <p:cNvSpPr/>
              <p:nvPr/>
            </p:nvSpPr>
            <p:spPr>
              <a:xfrm>
                <a:off x="3392280" y="2287440"/>
                <a:ext cx="309240" cy="1778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9560" y="1755720"/>
                <a:ext cx="464760" cy="177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319560" y="2079720"/>
                <a:ext cx="464760" cy="252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378240" y="1984320"/>
                <a:ext cx="347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78240" y="2054160"/>
                <a:ext cx="34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14880" y="2441520"/>
                <a:ext cx="464760" cy="1522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3313800" y="2677680"/>
            <a:ext cx="470520" cy="966240"/>
            <a:chOff x="3313800" y="2677680"/>
            <a:chExt cx="470520" cy="966240"/>
          </a:xfrm>
        </p:grpSpPr>
        <p:sp>
          <p:nvSpPr>
            <p:cNvPr id="218" name=""/>
            <p:cNvSpPr/>
            <p:nvPr/>
          </p:nvSpPr>
          <p:spPr>
            <a:xfrm rot="10767600">
              <a:off x="3315600" y="2679840"/>
              <a:ext cx="464760" cy="174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313800" y="2801520"/>
              <a:ext cx="470520" cy="842400"/>
              <a:chOff x="3313800" y="2801520"/>
              <a:chExt cx="470520" cy="842400"/>
            </a:xfrm>
          </p:grpSpPr>
          <p:sp>
            <p:nvSpPr>
              <p:cNvPr id="220" name=""/>
              <p:cNvSpPr/>
              <p:nvPr/>
            </p:nvSpPr>
            <p:spPr>
              <a:xfrm rot="10767600">
                <a:off x="3396240" y="2932200"/>
                <a:ext cx="309240" cy="1778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767600">
                <a:off x="3318480" y="3463920"/>
                <a:ext cx="464760" cy="177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767600">
                <a:off x="3314880" y="3065400"/>
                <a:ext cx="464760" cy="252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3376440" y="3411360"/>
                <a:ext cx="347040" cy="3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3375720" y="3341520"/>
                <a:ext cx="347040" cy="3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0767600">
                <a:off x="3317040" y="2803680"/>
                <a:ext cx="464760" cy="1522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901800" y="1755720"/>
            <a:ext cx="469440" cy="3882960"/>
            <a:chOff x="901800" y="1755720"/>
            <a:chExt cx="469440" cy="3882960"/>
          </a:xfrm>
        </p:grpSpPr>
        <p:sp>
          <p:nvSpPr>
            <p:cNvPr id="227" name=""/>
            <p:cNvSpPr/>
            <p:nvPr/>
          </p:nvSpPr>
          <p:spPr>
            <a:xfrm>
              <a:off x="901800" y="5514840"/>
              <a:ext cx="464760" cy="123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01800" y="5398920"/>
              <a:ext cx="46476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1800" y="5159160"/>
              <a:ext cx="464760" cy="292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01800" y="4876560"/>
              <a:ext cx="464760" cy="384120"/>
            </a:xfrm>
            <a:prstGeom prst="can">
              <a:avLst>
                <a:gd name="adj" fmla="val 18597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1800" y="4574880"/>
              <a:ext cx="464760" cy="384120"/>
            </a:xfrm>
            <a:prstGeom prst="can">
              <a:avLst>
                <a:gd name="adj" fmla="val 18597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1800" y="4352760"/>
              <a:ext cx="464760" cy="298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1800" y="4117680"/>
              <a:ext cx="464760" cy="325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01800" y="4012920"/>
              <a:ext cx="464760" cy="181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01800" y="3927240"/>
              <a:ext cx="46476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01800" y="3635280"/>
              <a:ext cx="464760" cy="355680"/>
            </a:xfrm>
            <a:prstGeom prst="can">
              <a:avLst>
                <a:gd name="adj" fmla="val 17856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1800" y="3555720"/>
              <a:ext cx="46476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1800" y="3254040"/>
              <a:ext cx="46476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01800" y="3000240"/>
              <a:ext cx="46476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01800" y="2746080"/>
              <a:ext cx="46476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01800" y="2682720"/>
              <a:ext cx="464760" cy="149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01800" y="2543040"/>
              <a:ext cx="464760" cy="174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901800" y="1755720"/>
              <a:ext cx="469440" cy="838080"/>
              <a:chOff x="901800" y="1755720"/>
              <a:chExt cx="469440" cy="838080"/>
            </a:xfrm>
          </p:grpSpPr>
          <p:sp>
            <p:nvSpPr>
              <p:cNvPr id="244" name=""/>
              <p:cNvSpPr/>
              <p:nvPr/>
            </p:nvSpPr>
            <p:spPr>
              <a:xfrm>
                <a:off x="979200" y="2287440"/>
                <a:ext cx="309240" cy="1778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06480" y="1755720"/>
                <a:ext cx="464760" cy="177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06480" y="2079720"/>
                <a:ext cx="464760" cy="252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5160" y="1984320"/>
                <a:ext cx="347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965160" y="2054160"/>
                <a:ext cx="34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01800" y="2441520"/>
                <a:ext cx="464760" cy="1522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1816200" y="1755720"/>
            <a:ext cx="469440" cy="3882960"/>
            <a:chOff x="1816200" y="1755720"/>
            <a:chExt cx="469440" cy="3882960"/>
          </a:xfrm>
        </p:grpSpPr>
        <p:sp>
          <p:nvSpPr>
            <p:cNvPr id="251" name=""/>
            <p:cNvSpPr/>
            <p:nvPr/>
          </p:nvSpPr>
          <p:spPr>
            <a:xfrm>
              <a:off x="1816200" y="5514840"/>
              <a:ext cx="465120" cy="123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16200" y="5398920"/>
              <a:ext cx="46512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16200" y="5159160"/>
              <a:ext cx="465120" cy="292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16200" y="4876560"/>
              <a:ext cx="465120" cy="384120"/>
            </a:xfrm>
            <a:prstGeom prst="can">
              <a:avLst>
                <a:gd name="adj" fmla="val 18597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16200" y="4574880"/>
              <a:ext cx="465120" cy="384120"/>
            </a:xfrm>
            <a:prstGeom prst="can">
              <a:avLst>
                <a:gd name="adj" fmla="val 18597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16200" y="4352760"/>
              <a:ext cx="465120" cy="298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16200" y="4117680"/>
              <a:ext cx="465120" cy="325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16200" y="4012920"/>
              <a:ext cx="465120" cy="181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16200" y="3927240"/>
              <a:ext cx="46512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16200" y="3635280"/>
              <a:ext cx="465120" cy="355680"/>
            </a:xfrm>
            <a:prstGeom prst="can">
              <a:avLst>
                <a:gd name="adj" fmla="val 17856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16200" y="3555720"/>
              <a:ext cx="465120" cy="149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16200" y="3254040"/>
              <a:ext cx="46512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16200" y="3000240"/>
              <a:ext cx="46512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16200" y="2746080"/>
              <a:ext cx="465120" cy="355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16200" y="2682720"/>
              <a:ext cx="465120" cy="149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16200" y="2543040"/>
              <a:ext cx="465120" cy="174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816200" y="1755720"/>
              <a:ext cx="469440" cy="838080"/>
              <a:chOff x="1816200" y="1755720"/>
              <a:chExt cx="469440" cy="838080"/>
            </a:xfrm>
          </p:grpSpPr>
          <p:sp>
            <p:nvSpPr>
              <p:cNvPr id="268" name=""/>
              <p:cNvSpPr/>
              <p:nvPr/>
            </p:nvSpPr>
            <p:spPr>
              <a:xfrm>
                <a:off x="1893600" y="2287440"/>
                <a:ext cx="309240" cy="1778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820880" y="1755720"/>
                <a:ext cx="464760" cy="177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0880" y="2079720"/>
                <a:ext cx="464760" cy="2523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79560" y="1984320"/>
                <a:ext cx="347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879560" y="2054160"/>
                <a:ext cx="34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16200" y="2441520"/>
                <a:ext cx="464760" cy="1522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368280" y="2247840"/>
            <a:ext cx="533520" cy="457200"/>
          </a:xfrm>
          <a:prstGeom prst="lightningBol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6240" y="4519080"/>
            <a:ext cx="30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enotipo patolo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6520" y="2685600"/>
            <a:ext cx="7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5q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5072040" y="1447920"/>
            <a:ext cx="4757760" cy="50292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952880" y="680688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riotipo del laboratorio Prof.ssa O.Zuffar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5751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potonia-Deficit di accrescimento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cies caratteristica-Ritardo mentale-epilessia-comportamento autis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400" y="124272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omosoma 15        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33560" y="45720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rigine dei riarrangiament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28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4080" y="150660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8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punti di rottura dei marcatori sovrannumera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gli stessi della delezione all’origine di DGS/VC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048120"/>
            <a:ext cx="7149960" cy="2895480"/>
            <a:chOff x="1676520" y="3048120"/>
            <a:chExt cx="7149960" cy="2895480"/>
          </a:xfrm>
        </p:grpSpPr>
        <p:sp>
          <p:nvSpPr>
            <p:cNvPr id="290" name=""/>
            <p:cNvSpPr/>
            <p:nvPr/>
          </p:nvSpPr>
          <p:spPr>
            <a:xfrm>
              <a:off x="5105520" y="3048120"/>
              <a:ext cx="0" cy="28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676520" y="3267000"/>
              <a:ext cx="456840" cy="2269800"/>
              <a:chOff x="1676520" y="3267000"/>
              <a:chExt cx="456840" cy="2269800"/>
            </a:xfrm>
          </p:grpSpPr>
          <p:sp>
            <p:nvSpPr>
              <p:cNvPr id="292" name=""/>
              <p:cNvSpPr/>
              <p:nvPr/>
            </p:nvSpPr>
            <p:spPr>
              <a:xfrm>
                <a:off x="1676520" y="5379840"/>
                <a:ext cx="452160" cy="1569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676520" y="5269680"/>
                <a:ext cx="452160" cy="156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76520" y="5151960"/>
                <a:ext cx="452160" cy="156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676520" y="5041800"/>
                <a:ext cx="452160" cy="156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676520" y="4732200"/>
                <a:ext cx="452160" cy="37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676520" y="4562280"/>
                <a:ext cx="452160" cy="264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676520" y="4376520"/>
                <a:ext cx="452160" cy="264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76520" y="4287600"/>
                <a:ext cx="452160" cy="156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676520" y="4177440"/>
                <a:ext cx="452160" cy="156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676520" y="3991680"/>
                <a:ext cx="452160" cy="264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70408"/>
                  </a:gs>
                  <a:gs pos="50000">
                    <a:srgbClr val="ffffff"/>
                  </a:gs>
                  <a:gs pos="100000">
                    <a:srgbClr val="87040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51760" y="3823560"/>
                <a:ext cx="301320" cy="18540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81200" y="3267000"/>
                <a:ext cx="452160" cy="185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81200" y="3605040"/>
                <a:ext cx="452160" cy="2649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737360" y="3506400"/>
                <a:ext cx="339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737360" y="3579840"/>
                <a:ext cx="33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 flipV="1">
              <a:off x="2133720" y="3352680"/>
              <a:ext cx="18288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3720" y="4267080"/>
              <a:ext cx="236196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29200" y="335268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29200" y="409104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29200" y="4484520"/>
              <a:ext cx="457200" cy="2527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29200" y="492912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29200" y="531036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53080" y="3200400"/>
              <a:ext cx="304920" cy="198108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82440 h 1981080"/>
                <a:gd name="textAreaBottom" fmla="*/ 18986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97600" y="3763440"/>
              <a:ext cx="19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 Mb (85-90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86400" y="3200400"/>
              <a:ext cx="304920" cy="106668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98240" y="3355200"/>
              <a:ext cx="86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.5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8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86400" y="3200400"/>
              <a:ext cx="304920" cy="160020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77000" y="4190400"/>
              <a:ext cx="67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2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92040" y="3300120"/>
              <a:ext cx="102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ES B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92040" y="4824000"/>
              <a:ext cx="102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ES B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924680" y="61722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66880" y="4648320"/>
            <a:ext cx="685800" cy="152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733560" y="45720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rigine dei riarrangiamenti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32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819520" y="153936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8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punti di rottura (BP) dei marcatori sovrannumerari coinvolgono i dupliconi della regione PWS/AS ed altri piu’ dis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5374200">
            <a:off x="1981800" y="2479320"/>
            <a:ext cx="182520" cy="211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rot="5374200">
            <a:off x="1986480" y="2643480"/>
            <a:ext cx="181080" cy="210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rot="5374200">
            <a:off x="1354680" y="1687680"/>
            <a:ext cx="14367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fff02"/>
              </a:gs>
              <a:gs pos="50000">
                <a:srgbClr val="ffffff"/>
              </a:gs>
              <a:gs pos="100000">
                <a:srgbClr val="efff0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3108240"/>
            <a:ext cx="160200" cy="60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3052800"/>
            <a:ext cx="160200" cy="7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2938320"/>
            <a:ext cx="160200" cy="139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2801880"/>
            <a:ext cx="160200" cy="185760"/>
          </a:xfrm>
          <a:prstGeom prst="can">
            <a:avLst>
              <a:gd name="adj" fmla="val 18597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2657520"/>
            <a:ext cx="160200" cy="183960"/>
          </a:xfrm>
          <a:prstGeom prst="can">
            <a:avLst>
              <a:gd name="adj" fmla="val 18597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2550960"/>
            <a:ext cx="160200" cy="142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2438280"/>
            <a:ext cx="160200" cy="155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120" y="2387520"/>
            <a:ext cx="160200" cy="87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2120" y="2346480"/>
            <a:ext cx="160200" cy="72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2120" y="2206800"/>
            <a:ext cx="160200" cy="17136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2168640"/>
            <a:ext cx="160200" cy="71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2023920"/>
            <a:ext cx="160200" cy="169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1901880"/>
            <a:ext cx="160200" cy="171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779480"/>
            <a:ext cx="160200" cy="171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1749600"/>
            <a:ext cx="160200" cy="71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1682640"/>
            <a:ext cx="160200" cy="84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62120" y="1305000"/>
            <a:ext cx="161280" cy="401040"/>
            <a:chOff x="762120" y="1305000"/>
            <a:chExt cx="161280" cy="401040"/>
          </a:xfrm>
        </p:grpSpPr>
        <p:sp>
          <p:nvSpPr>
            <p:cNvPr id="352" name=""/>
            <p:cNvSpPr/>
            <p:nvPr/>
          </p:nvSpPr>
          <p:spPr>
            <a:xfrm>
              <a:off x="788760" y="1559520"/>
              <a:ext cx="106560" cy="84960"/>
            </a:xfrm>
            <a:prstGeom prst="ca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3560" y="1305000"/>
              <a:ext cx="159840" cy="84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3560" y="1460160"/>
              <a:ext cx="159840" cy="12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3720" y="1414440"/>
              <a:ext cx="119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3720" y="1447920"/>
              <a:ext cx="1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2120" y="1633320"/>
              <a:ext cx="159840" cy="72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 flipV="1">
            <a:off x="919080" y="828360"/>
            <a:ext cx="944640" cy="8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19080" y="1706400"/>
            <a:ext cx="1024200" cy="124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52800" y="755640"/>
            <a:ext cx="209520" cy="2063880"/>
          </a:xfrm>
          <a:custGeom>
            <a:avLst/>
            <a:gdLst>
              <a:gd name="textAreaLeft" fmla="*/ 0 w 209520"/>
              <a:gd name="textAreaRight" fmla="*/ 146880 w 209520"/>
              <a:gd name="textAreaTop" fmla="*/ 85680 h 2063880"/>
              <a:gd name="textAreaBottom" fmla="*/ 1978200 h 20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rot="5374200">
            <a:off x="1986480" y="2832480"/>
            <a:ext cx="182520" cy="209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rot="5374200">
            <a:off x="1920600" y="3130200"/>
            <a:ext cx="317520" cy="12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rot="5374200">
            <a:off x="1908720" y="705240"/>
            <a:ext cx="317520" cy="12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78000" y="938160"/>
            <a:ext cx="184320" cy="1881360"/>
          </a:xfrm>
          <a:custGeom>
            <a:avLst/>
            <a:gdLst>
              <a:gd name="textAreaLeft" fmla="*/ 0 w 184320"/>
              <a:gd name="textAreaRight" fmla="*/ 129240 w 184320"/>
              <a:gd name="textAreaTop" fmla="*/ 78120 h 1881360"/>
              <a:gd name="textAreaBottom" fmla="*/ 1803240 h 188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rot="5374200">
            <a:off x="1974600" y="752760"/>
            <a:ext cx="183960" cy="211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rot="5374200">
            <a:off x="1976760" y="937440"/>
            <a:ext cx="182880" cy="209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28880" y="901800"/>
            <a:ext cx="0" cy="220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8240" y="2511360"/>
            <a:ext cx="0" cy="476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53160" y="3236040"/>
            <a:ext cx="8694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lass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42000" y="3243960"/>
            <a:ext cx="9489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lasse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01080" y="3224520"/>
            <a:ext cx="609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20040" y="3224520"/>
            <a:ext cx="609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39360" y="3224520"/>
            <a:ext cx="609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P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4191120"/>
            <a:ext cx="7086600" cy="152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4038480"/>
            <a:ext cx="15228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4038480"/>
            <a:ext cx="22860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15000" y="4038480"/>
            <a:ext cx="15228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4038480"/>
            <a:ext cx="15264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9920" y="4038480"/>
            <a:ext cx="15228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10280" y="4038480"/>
            <a:ext cx="10800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893000" y="4038480"/>
            <a:ext cx="10800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53280" y="4038480"/>
            <a:ext cx="15264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839080" y="4038480"/>
            <a:ext cx="10800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991720" y="4038480"/>
            <a:ext cx="10800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81280" y="44956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86400" y="44956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38880" y="44956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77320" y="44956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43600" y="4648320"/>
            <a:ext cx="3809880" cy="152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3772080"/>
            <a:ext cx="0" cy="2933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57880" y="3772080"/>
            <a:ext cx="0" cy="2933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43600" y="3772080"/>
            <a:ext cx="0" cy="2933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162920" y="3772080"/>
            <a:ext cx="0" cy="2933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534520" y="3772080"/>
            <a:ext cx="0" cy="2933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19720" y="4876920"/>
            <a:ext cx="5333760" cy="152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5334120"/>
            <a:ext cx="1295640" cy="152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6880" y="5562720"/>
            <a:ext cx="1828800" cy="152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4876920"/>
            <a:ext cx="685800" cy="152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66880" y="5791320"/>
            <a:ext cx="3276720" cy="152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92440" y="6095880"/>
            <a:ext cx="2779560" cy="152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0080" y="6095880"/>
            <a:ext cx="2779920" cy="152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4648320"/>
            <a:ext cx="304560" cy="457200"/>
          </a:xfrm>
          <a:custGeom>
            <a:avLst/>
            <a:gdLst>
              <a:gd name="textAreaLeft" fmla="*/ 89640 w 304560"/>
              <a:gd name="textAreaRight" fmla="*/ 304920 w 304560"/>
              <a:gd name="textAreaTop" fmla="*/ 1872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2000" y="466956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ezioni PWS/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62320" y="5334120"/>
            <a:ext cx="304560" cy="609480"/>
          </a:xfrm>
          <a:custGeom>
            <a:avLst/>
            <a:gdLst>
              <a:gd name="textAreaLeft" fmla="*/ 89640 w 304560"/>
              <a:gd name="textAreaRight" fmla="*/ 304920 w 3045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61840" y="535536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v dup(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1000" y="6066720"/>
            <a:ext cx="22611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andi inv dup(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uplicazioni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iplic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18160" y="6903000"/>
            <a:ext cx="76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dificato da: Gimelli G. et al: Hum.Mol.Genet. 12(8) 849-858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40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62160" y="6094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rigine dei riarrangiamenti I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28600" y="1014120"/>
            <a:ext cx="3704760" cy="1347840"/>
            <a:chOff x="228600" y="1014120"/>
            <a:chExt cx="3704760" cy="1347840"/>
          </a:xfrm>
        </p:grpSpPr>
        <p:sp>
          <p:nvSpPr>
            <p:cNvPr id="416" name=""/>
            <p:cNvSpPr/>
            <p:nvPr/>
          </p:nvSpPr>
          <p:spPr>
            <a:xfrm>
              <a:off x="285840" y="1014120"/>
              <a:ext cx="253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cromosom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28600" y="1512720"/>
              <a:ext cx="3225960" cy="474840"/>
              <a:chOff x="228600" y="1512720"/>
              <a:chExt cx="3225960" cy="47484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228600" y="1519200"/>
                <a:ext cx="102960" cy="468360"/>
                <a:chOff x="228600" y="1519200"/>
                <a:chExt cx="102960" cy="4683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28600" y="154152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79720" y="151920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2940120" y="1695600"/>
                <a:ext cx="245880" cy="1062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1697040"/>
                <a:ext cx="20628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06520" y="1644480"/>
                <a:ext cx="380880" cy="1875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61840" y="1697040"/>
                <a:ext cx="108936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00080" y="1644480"/>
                <a:ext cx="381240" cy="1875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54320" y="1697040"/>
                <a:ext cx="55728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06520" y="1563840"/>
                <a:ext cx="35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951200" y="1563840"/>
                <a:ext cx="35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9" name=""/>
              <p:cNvGrpSpPr/>
              <p:nvPr/>
            </p:nvGrpSpPr>
            <p:grpSpPr>
              <a:xfrm>
                <a:off x="2816280" y="1512720"/>
                <a:ext cx="102960" cy="468360"/>
                <a:chOff x="2816280" y="1512720"/>
                <a:chExt cx="102960" cy="46836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816280" y="1535040"/>
                  <a:ext cx="5148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867400" y="151272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>
                <a:off x="2914560" y="1601640"/>
                <a:ext cx="76320" cy="22248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73000" y="172548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033560" y="1725480"/>
                <a:ext cx="1238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12840" y="172548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379520" y="172548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46200" y="172548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727280" y="172548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292480" y="172260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73200" y="172260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3080" y="171612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24520" y="163836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294360" y="163836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327480" y="1695600"/>
                <a:ext cx="127080" cy="13320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709200" y="1887120"/>
              <a:ext cx="3224160" cy="474840"/>
              <a:chOff x="709200" y="1887120"/>
              <a:chExt cx="3224160" cy="474840"/>
            </a:xfrm>
          </p:grpSpPr>
          <p:sp>
            <p:nvSpPr>
              <p:cNvPr id="446" name=""/>
              <p:cNvSpPr/>
              <p:nvPr/>
            </p:nvSpPr>
            <p:spPr>
              <a:xfrm rot="10800000">
                <a:off x="975960" y="2073240"/>
                <a:ext cx="245880" cy="1065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10800000">
                <a:off x="3652560" y="2087280"/>
                <a:ext cx="20628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0800000">
                <a:off x="3276000" y="2044800"/>
                <a:ext cx="38124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10800000">
                <a:off x="2212560" y="2071800"/>
                <a:ext cx="108900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0800000">
                <a:off x="1882800" y="2044800"/>
                <a:ext cx="38088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0800000">
                <a:off x="1350720" y="2071800"/>
                <a:ext cx="55728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3301920" y="2313000"/>
                <a:ext cx="35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1857240" y="2313000"/>
                <a:ext cx="35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1243080" y="1893600"/>
                <a:ext cx="102960" cy="468360"/>
                <a:chOff x="1243080" y="1893600"/>
                <a:chExt cx="102960" cy="468360"/>
              </a:xfrm>
            </p:grpSpPr>
            <p:sp>
              <p:nvSpPr>
                <p:cNvPr id="455" name=""/>
                <p:cNvSpPr/>
                <p:nvPr/>
              </p:nvSpPr>
              <p:spPr>
                <a:xfrm rot="10800000">
                  <a:off x="1294560" y="1893600"/>
                  <a:ext cx="5148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rot="10800000">
                  <a:off x="1243080" y="191592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 rot="10800000">
                <a:off x="1172880" y="1971360"/>
                <a:ext cx="75960" cy="22212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3830400" y="1887120"/>
                <a:ext cx="102960" cy="468360"/>
                <a:chOff x="3830400" y="1887120"/>
                <a:chExt cx="102960" cy="468360"/>
              </a:xfrm>
            </p:grpSpPr>
            <p:sp>
              <p:nvSpPr>
                <p:cNvPr id="459" name=""/>
                <p:cNvSpPr/>
                <p:nvPr/>
              </p:nvSpPr>
              <p:spPr>
                <a:xfrm rot="10800000">
                  <a:off x="3881520" y="188712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0800000">
                  <a:off x="3830400" y="190944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 rot="10800000">
                <a:off x="3163320" y="207180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10800000">
                <a:off x="3006720" y="2071800"/>
                <a:ext cx="1238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0800000">
                <a:off x="2824200" y="207180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0800000">
                <a:off x="2657520" y="207180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10800000">
                <a:off x="2490840" y="207180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0800000">
                <a:off x="2309760" y="207180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0800000">
                <a:off x="1744560" y="20750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0800000">
                <a:off x="1563120" y="207504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0800000">
                <a:off x="3693600" y="208116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flipV="1">
                <a:off x="936720" y="200952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 flipV="1">
                <a:off x="866880" y="200952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0800000">
                <a:off x="709200" y="2048040"/>
                <a:ext cx="127080" cy="1332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1930320" y="1828800"/>
              <a:ext cx="304920" cy="228600"/>
            </a:xfrm>
            <a:prstGeom prst="flowChartCollat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191120" y="1447560"/>
            <a:ext cx="5486040" cy="1110960"/>
            <a:chOff x="4191120" y="1447560"/>
            <a:chExt cx="5486040" cy="1110960"/>
          </a:xfrm>
        </p:grpSpPr>
        <p:grpSp>
          <p:nvGrpSpPr>
            <p:cNvPr id="475" name=""/>
            <p:cNvGrpSpPr/>
            <p:nvPr/>
          </p:nvGrpSpPr>
          <p:grpSpPr>
            <a:xfrm>
              <a:off x="6721200" y="1447560"/>
              <a:ext cx="2727360" cy="479520"/>
              <a:chOff x="6721200" y="1447560"/>
              <a:chExt cx="2727360" cy="479520"/>
            </a:xfrm>
          </p:grpSpPr>
          <p:sp>
            <p:nvSpPr>
              <p:cNvPr id="476" name=""/>
              <p:cNvSpPr/>
              <p:nvPr/>
            </p:nvSpPr>
            <p:spPr>
              <a:xfrm rot="10800000">
                <a:off x="8261280" y="1636560"/>
                <a:ext cx="55728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0800000">
                <a:off x="7894800" y="1598760"/>
                <a:ext cx="38088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0800000">
                <a:off x="6987960" y="1626840"/>
                <a:ext cx="245880" cy="1062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0800000">
                <a:off x="7362720" y="1625400"/>
                <a:ext cx="557280" cy="107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7254720" y="1447560"/>
                <a:ext cx="102960" cy="468360"/>
                <a:chOff x="7254720" y="1447560"/>
                <a:chExt cx="102960" cy="468360"/>
              </a:xfrm>
            </p:grpSpPr>
            <p:sp>
              <p:nvSpPr>
                <p:cNvPr id="481" name=""/>
                <p:cNvSpPr/>
                <p:nvPr/>
              </p:nvSpPr>
              <p:spPr>
                <a:xfrm rot="10800000">
                  <a:off x="7305840" y="144756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10800000">
                  <a:off x="7254720" y="146988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 rot="10800000">
                <a:off x="7184880" y="1525320"/>
                <a:ext cx="76320" cy="22212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0800000">
                <a:off x="7756560" y="16286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0800000">
                <a:off x="7575120" y="162864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948720" y="156348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6878880" y="156348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0800000">
                <a:off x="6721200" y="1601280"/>
                <a:ext cx="127080" cy="13356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8778960" y="1459080"/>
                <a:ext cx="102960" cy="468000"/>
                <a:chOff x="8778960" y="1459080"/>
                <a:chExt cx="102960" cy="468000"/>
              </a:xfrm>
            </p:grpSpPr>
            <p:sp>
              <p:nvSpPr>
                <p:cNvPr id="490" name=""/>
                <p:cNvSpPr/>
                <p:nvPr/>
              </p:nvSpPr>
              <p:spPr>
                <a:xfrm rot="10800000">
                  <a:off x="8830440" y="1459080"/>
                  <a:ext cx="51480" cy="44568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rot="10800000">
                  <a:off x="8778960" y="1481400"/>
                  <a:ext cx="51840" cy="44568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2" name=""/>
              <p:cNvSpPr/>
              <p:nvPr/>
            </p:nvSpPr>
            <p:spPr>
              <a:xfrm rot="10800000">
                <a:off x="8502120" y="163980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0800000">
                <a:off x="8321760" y="163980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0800000">
                <a:off x="8959680" y="1638000"/>
                <a:ext cx="246240" cy="1062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0800000">
                <a:off x="8901000" y="1536480"/>
                <a:ext cx="76320" cy="22212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 flipV="1">
                <a:off x="9280800" y="157428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>
                <a:off x="9210960" y="157428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10800000">
                <a:off x="9321480" y="1612440"/>
                <a:ext cx="127080" cy="13356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5918040" y="2057400"/>
              <a:ext cx="3759120" cy="501120"/>
              <a:chOff x="5918040" y="2057400"/>
              <a:chExt cx="3759120" cy="501120"/>
            </a:xfrm>
          </p:grpSpPr>
          <p:sp>
            <p:nvSpPr>
              <p:cNvPr id="500" name=""/>
              <p:cNvSpPr/>
              <p:nvPr/>
            </p:nvSpPr>
            <p:spPr>
              <a:xfrm>
                <a:off x="5994360" y="2268360"/>
                <a:ext cx="206280" cy="90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95960" y="2215800"/>
                <a:ext cx="38088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551640" y="2268360"/>
                <a:ext cx="1089000" cy="107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918040" y="2112840"/>
                <a:ext cx="52560" cy="4456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968800" y="2090520"/>
                <a:ext cx="52560" cy="4456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62440" y="2296800"/>
                <a:ext cx="125640" cy="7740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23000" y="2296800"/>
                <a:ext cx="123840" cy="7740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902280" y="2296800"/>
                <a:ext cx="125640" cy="7740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068960" y="2296800"/>
                <a:ext cx="125640" cy="774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235640" y="2296800"/>
                <a:ext cx="125640" cy="774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416720" y="2296800"/>
                <a:ext cx="125280" cy="774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032520" y="2287440"/>
                <a:ext cx="125280" cy="774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589880" y="2212560"/>
                <a:ext cx="38088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947000" y="2268360"/>
                <a:ext cx="1089000" cy="107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959600" y="22982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126280" y="22982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288280" y="22982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423280" y="229032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583480" y="2290320"/>
                <a:ext cx="1238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762760" y="229032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9010440" y="2215800"/>
                <a:ext cx="38124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9378720" y="2279520"/>
                <a:ext cx="206640" cy="90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574200" y="2079360"/>
                <a:ext cx="52200" cy="4456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9624960" y="2057400"/>
                <a:ext cx="52200" cy="4456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9416880" y="229824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5227560" y="146916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isatelli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70720" y="21247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cent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191120" y="1905120"/>
              <a:ext cx="609480" cy="15228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228600" y="2819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557040" y="2966400"/>
            <a:ext cx="2404080" cy="1187640"/>
            <a:chOff x="6557040" y="2966400"/>
            <a:chExt cx="2404080" cy="1187640"/>
          </a:xfrm>
        </p:grpSpPr>
        <p:grpSp>
          <p:nvGrpSpPr>
            <p:cNvPr id="530" name=""/>
            <p:cNvGrpSpPr/>
            <p:nvPr/>
          </p:nvGrpSpPr>
          <p:grpSpPr>
            <a:xfrm>
              <a:off x="7162920" y="2966400"/>
              <a:ext cx="1798200" cy="1187640"/>
              <a:chOff x="7162920" y="2966400"/>
              <a:chExt cx="1798200" cy="1187640"/>
            </a:xfrm>
          </p:grpSpPr>
          <p:sp>
            <p:nvSpPr>
              <p:cNvPr id="531" name=""/>
              <p:cNvSpPr/>
              <p:nvPr/>
            </p:nvSpPr>
            <p:spPr>
              <a:xfrm rot="5460600">
                <a:off x="7403040" y="3088440"/>
                <a:ext cx="816120" cy="582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516" y="974"/>
                      <a:pt x="5431" y="5080"/>
                      <a:pt x="5431" y="10800"/>
                    </a:cubicBezTo>
                    <a:cubicBezTo>
                      <a:pt x="5431" y="16520"/>
                      <a:pt x="13516" y="2062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5301600">
                <a:off x="7850880" y="3390120"/>
                <a:ext cx="337680" cy="16812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5301600">
                <a:off x="7435080" y="3399120"/>
                <a:ext cx="337680" cy="1677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436880" y="3305520"/>
                <a:ext cx="0" cy="32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186040" y="3305520"/>
                <a:ext cx="0" cy="32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5534400">
                <a:off x="7459560" y="3692520"/>
                <a:ext cx="220320" cy="98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5534400">
                <a:off x="7917120" y="3692520"/>
                <a:ext cx="220320" cy="98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692560" y="3842280"/>
                <a:ext cx="268560" cy="113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385040" y="3843720"/>
                <a:ext cx="225000" cy="968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977960" y="3843720"/>
                <a:ext cx="608760" cy="1152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8557200" y="3647160"/>
                <a:ext cx="112320" cy="500400"/>
                <a:chOff x="8557200" y="3647160"/>
                <a:chExt cx="112320" cy="5004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8557200" y="3670920"/>
                  <a:ext cx="56160" cy="4766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613000" y="3647160"/>
                  <a:ext cx="56520" cy="4766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>
                <a:off x="8664840" y="3742200"/>
                <a:ext cx="83160" cy="237240"/>
              </a:xfrm>
              <a:prstGeom prst="ellipse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7301520" y="3653640"/>
                <a:ext cx="112320" cy="500400"/>
                <a:chOff x="7301520" y="3653640"/>
                <a:chExt cx="112320" cy="5004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301520" y="3677400"/>
                  <a:ext cx="56520" cy="4766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357320" y="3653640"/>
                  <a:ext cx="56520" cy="4766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7162920" y="3843720"/>
                <a:ext cx="166680" cy="968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436880" y="3876120"/>
                <a:ext cx="136800" cy="828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988400" y="3876120"/>
                <a:ext cx="137160" cy="828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86040" y="3876120"/>
                <a:ext cx="136800" cy="828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5179200">
                <a:off x="7674840" y="3350520"/>
                <a:ext cx="244080" cy="249480"/>
              </a:xfrm>
              <a:prstGeom prst="flowChartCollat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670880" y="3025800"/>
                <a:ext cx="137160" cy="8280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849800" y="3107160"/>
                <a:ext cx="136800" cy="831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884360" y="3214080"/>
                <a:ext cx="136800" cy="828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579080" y="3215880"/>
                <a:ext cx="136800" cy="8280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620840" y="3120840"/>
                <a:ext cx="136800" cy="8280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814880" y="3010320"/>
                <a:ext cx="137160" cy="828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 rot="2380200">
              <a:off x="6553080" y="3352320"/>
              <a:ext cx="457200" cy="15264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38160 h 152640"/>
                <a:gd name="textAreaBottom" fmla="*/ 114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84040" y="2854080"/>
            <a:ext cx="6027840" cy="592560"/>
            <a:chOff x="284040" y="2854080"/>
            <a:chExt cx="6027840" cy="592560"/>
          </a:xfrm>
        </p:grpSpPr>
        <p:sp>
          <p:nvSpPr>
            <p:cNvPr id="561" name=""/>
            <p:cNvSpPr/>
            <p:nvPr/>
          </p:nvSpPr>
          <p:spPr>
            <a:xfrm>
              <a:off x="6151680" y="307980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284040" y="2854080"/>
              <a:ext cx="6027840" cy="592560"/>
              <a:chOff x="284040" y="2854080"/>
              <a:chExt cx="6027840" cy="592560"/>
            </a:xfrm>
          </p:grpSpPr>
          <p:sp>
            <p:nvSpPr>
              <p:cNvPr id="563" name=""/>
              <p:cNvSpPr/>
              <p:nvPr/>
            </p:nvSpPr>
            <p:spPr>
              <a:xfrm>
                <a:off x="284040" y="2854080"/>
                <a:ext cx="253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Intracromosomic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971800" y="2971800"/>
                <a:ext cx="3340080" cy="474840"/>
                <a:chOff x="2971800" y="2971800"/>
                <a:chExt cx="3340080" cy="47484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971800" y="2971800"/>
                  <a:ext cx="3084480" cy="474840"/>
                  <a:chOff x="2971800" y="2971800"/>
                  <a:chExt cx="3084480" cy="47484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5810400" y="3154320"/>
                    <a:ext cx="245880" cy="10656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174840" y="3156120"/>
                    <a:ext cx="206640" cy="9036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3376440" y="3103560"/>
                    <a:ext cx="381240" cy="187200"/>
                  </a:xfrm>
                  <a:prstGeom prst="cube">
                    <a:avLst>
                      <a:gd name="adj" fmla="val 25000"/>
                    </a:avLst>
                  </a:prstGeom>
                  <a:blipFill rotWithShape="0">
                    <a:blip r:embed="rId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3732120" y="3156120"/>
                    <a:ext cx="1089000" cy="10764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4770360" y="3103560"/>
                    <a:ext cx="381240" cy="187200"/>
                  </a:xfrm>
                  <a:prstGeom prst="cube">
                    <a:avLst>
                      <a:gd name="adj" fmla="val 25000"/>
                    </a:avLst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5124600" y="3156120"/>
                    <a:ext cx="556920" cy="10764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3376440" y="3022560"/>
                    <a:ext cx="355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4821120" y="3022560"/>
                    <a:ext cx="355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686560" y="2971800"/>
                    <a:ext cx="102960" cy="468360"/>
                    <a:chOff x="5686560" y="2971800"/>
                    <a:chExt cx="102960" cy="46836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5686560" y="2994120"/>
                      <a:ext cx="5148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480">
                          <a:moveTo>
                            <a:pt x="0" y="0"/>
                          </a:moveTo>
                          <a:cubicBezTo>
                            <a:pt x="18" y="55"/>
                            <a:pt x="44" y="104"/>
                            <a:pt x="80" y="152"/>
                          </a:cubicBezTo>
                          <a:cubicBezTo>
                            <a:pt x="97" y="203"/>
                            <a:pt x="67" y="244"/>
                            <a:pt x="32" y="280"/>
                          </a:cubicBezTo>
                          <a:cubicBezTo>
                            <a:pt x="16" y="325"/>
                            <a:pt x="5" y="334"/>
                            <a:pt x="24" y="384"/>
                          </a:cubicBezTo>
                          <a:cubicBezTo>
                            <a:pt x="36" y="417"/>
                            <a:pt x="71" y="446"/>
                            <a:pt x="88" y="48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5737680" y="2971800"/>
                      <a:ext cx="5184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480">
                          <a:moveTo>
                            <a:pt x="0" y="0"/>
                          </a:moveTo>
                          <a:cubicBezTo>
                            <a:pt x="18" y="55"/>
                            <a:pt x="44" y="104"/>
                            <a:pt x="80" y="152"/>
                          </a:cubicBezTo>
                          <a:cubicBezTo>
                            <a:pt x="97" y="203"/>
                            <a:pt x="67" y="244"/>
                            <a:pt x="32" y="280"/>
                          </a:cubicBezTo>
                          <a:cubicBezTo>
                            <a:pt x="16" y="325"/>
                            <a:pt x="5" y="334"/>
                            <a:pt x="24" y="384"/>
                          </a:cubicBezTo>
                          <a:cubicBezTo>
                            <a:pt x="36" y="417"/>
                            <a:pt x="71" y="446"/>
                            <a:pt x="88" y="48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7" name=""/>
                  <p:cNvSpPr/>
                  <p:nvPr/>
                </p:nvSpPr>
                <p:spPr>
                  <a:xfrm>
                    <a:off x="5784840" y="3060720"/>
                    <a:ext cx="76320" cy="222120"/>
                  </a:xfrm>
                  <a:prstGeom prst="ellipse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3098880" y="2978280"/>
                    <a:ext cx="102960" cy="468360"/>
                    <a:chOff x="3098880" y="2978280"/>
                    <a:chExt cx="102960" cy="46836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3098880" y="3000600"/>
                      <a:ext cx="5148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480">
                          <a:moveTo>
                            <a:pt x="0" y="0"/>
                          </a:moveTo>
                          <a:cubicBezTo>
                            <a:pt x="18" y="55"/>
                            <a:pt x="44" y="104"/>
                            <a:pt x="80" y="152"/>
                          </a:cubicBezTo>
                          <a:cubicBezTo>
                            <a:pt x="97" y="203"/>
                            <a:pt x="67" y="244"/>
                            <a:pt x="32" y="280"/>
                          </a:cubicBezTo>
                          <a:cubicBezTo>
                            <a:pt x="16" y="325"/>
                            <a:pt x="5" y="334"/>
                            <a:pt x="24" y="384"/>
                          </a:cubicBezTo>
                          <a:cubicBezTo>
                            <a:pt x="36" y="417"/>
                            <a:pt x="71" y="446"/>
                            <a:pt x="88" y="48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3150000" y="2978280"/>
                      <a:ext cx="5184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480">
                          <a:moveTo>
                            <a:pt x="0" y="0"/>
                          </a:moveTo>
                          <a:cubicBezTo>
                            <a:pt x="18" y="55"/>
                            <a:pt x="44" y="104"/>
                            <a:pt x="80" y="152"/>
                          </a:cubicBezTo>
                          <a:cubicBezTo>
                            <a:pt x="97" y="203"/>
                            <a:pt x="67" y="244"/>
                            <a:pt x="32" y="280"/>
                          </a:cubicBezTo>
                          <a:cubicBezTo>
                            <a:pt x="16" y="325"/>
                            <a:pt x="5" y="334"/>
                            <a:pt x="24" y="384"/>
                          </a:cubicBezTo>
                          <a:cubicBezTo>
                            <a:pt x="36" y="417"/>
                            <a:pt x="71" y="446"/>
                            <a:pt x="88" y="48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1" name=""/>
                  <p:cNvSpPr/>
                  <p:nvPr/>
                </p:nvSpPr>
                <p:spPr>
                  <a:xfrm>
                    <a:off x="2971800" y="3156120"/>
                    <a:ext cx="152280" cy="9036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3743280" y="3184560"/>
                    <a:ext cx="125280" cy="77760"/>
                  </a:xfrm>
                  <a:prstGeom prst="irregularSeal1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3903840" y="3184560"/>
                    <a:ext cx="123480" cy="77760"/>
                  </a:xfrm>
                  <a:prstGeom prst="irregularSeal1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4083120" y="3184560"/>
                    <a:ext cx="125280" cy="77760"/>
                  </a:xfrm>
                  <a:prstGeom prst="irregularSeal1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4249800" y="3184560"/>
                    <a:ext cx="12528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4416480" y="3184560"/>
                    <a:ext cx="12528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4597560" y="3184560"/>
                    <a:ext cx="12528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5162400" y="3181320"/>
                    <a:ext cx="12564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5343480" y="3181320"/>
                    <a:ext cx="12528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3213000" y="3174840"/>
                    <a:ext cx="125640" cy="7812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1" name=""/>
                <p:cNvSpPr/>
                <p:nvPr/>
              </p:nvSpPr>
              <p:spPr>
                <a:xfrm>
                  <a:off x="6081840" y="3079800"/>
                  <a:ext cx="2880" cy="228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6184800" y="3137040"/>
                  <a:ext cx="127080" cy="133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3" name=""/>
          <p:cNvGrpSpPr/>
          <p:nvPr/>
        </p:nvGrpSpPr>
        <p:grpSpPr>
          <a:xfrm>
            <a:off x="914400" y="3886200"/>
            <a:ext cx="4952880" cy="703440"/>
            <a:chOff x="914400" y="3886200"/>
            <a:chExt cx="4952880" cy="703440"/>
          </a:xfrm>
        </p:grpSpPr>
        <p:sp>
          <p:nvSpPr>
            <p:cNvPr id="594" name=""/>
            <p:cNvSpPr/>
            <p:nvPr/>
          </p:nvSpPr>
          <p:spPr>
            <a:xfrm rot="10800000">
              <a:off x="4648320" y="4190760"/>
              <a:ext cx="1218960" cy="228600"/>
            </a:xfrm>
            <a:custGeom>
              <a:avLst/>
              <a:gdLst>
                <a:gd name="textAreaLeft" fmla="*/ 19044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914400" y="3886200"/>
              <a:ext cx="3340080" cy="474840"/>
              <a:chOff x="914400" y="3886200"/>
              <a:chExt cx="3340080" cy="47484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914400" y="3886200"/>
                <a:ext cx="3084480" cy="474840"/>
                <a:chOff x="914400" y="3886200"/>
                <a:chExt cx="3084480" cy="47484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3753000" y="4068720"/>
                  <a:ext cx="245880" cy="1065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117440" y="4070520"/>
                  <a:ext cx="206640" cy="903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319040" y="4017960"/>
                  <a:ext cx="381240" cy="187200"/>
                </a:xfrm>
                <a:prstGeom prst="cube">
                  <a:avLst>
                    <a:gd name="adj" fmla="val 25000"/>
                  </a:avLst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674720" y="4070520"/>
                  <a:ext cx="1089000" cy="1076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712960" y="4017960"/>
                  <a:ext cx="381240" cy="187200"/>
                </a:xfrm>
                <a:prstGeom prst="cube">
                  <a:avLst>
                    <a:gd name="adj" fmla="val 25000"/>
                  </a:avLst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067200" y="4070520"/>
                  <a:ext cx="556920" cy="1076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319040" y="3936960"/>
                  <a:ext cx="355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763720" y="3936960"/>
                  <a:ext cx="355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5" name=""/>
                <p:cNvGrpSpPr/>
                <p:nvPr/>
              </p:nvGrpSpPr>
              <p:grpSpPr>
                <a:xfrm>
                  <a:off x="3629160" y="3886200"/>
                  <a:ext cx="102960" cy="468360"/>
                  <a:chOff x="3629160" y="3886200"/>
                  <a:chExt cx="102960" cy="46836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>
                    <a:off x="3629160" y="3908520"/>
                    <a:ext cx="51480" cy="4460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3680280" y="3886200"/>
                    <a:ext cx="51840" cy="4460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8" name=""/>
                <p:cNvSpPr/>
                <p:nvPr/>
              </p:nvSpPr>
              <p:spPr>
                <a:xfrm>
                  <a:off x="3727440" y="3975120"/>
                  <a:ext cx="76320" cy="222120"/>
                </a:xfrm>
                <a:prstGeom prst="ellipse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9" name=""/>
                <p:cNvGrpSpPr/>
                <p:nvPr/>
              </p:nvGrpSpPr>
              <p:grpSpPr>
                <a:xfrm>
                  <a:off x="1041480" y="3892680"/>
                  <a:ext cx="102960" cy="468360"/>
                  <a:chOff x="1041480" y="3892680"/>
                  <a:chExt cx="102960" cy="46836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1041480" y="3915000"/>
                    <a:ext cx="51480" cy="4460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1092600" y="3892680"/>
                    <a:ext cx="51840" cy="4460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2" name=""/>
                <p:cNvSpPr/>
                <p:nvPr/>
              </p:nvSpPr>
              <p:spPr>
                <a:xfrm>
                  <a:off x="914400" y="4070520"/>
                  <a:ext cx="152280" cy="903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685880" y="4098960"/>
                  <a:ext cx="125280" cy="77760"/>
                </a:xfrm>
                <a:prstGeom prst="irregularSeal1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846440" y="4098960"/>
                  <a:ext cx="123480" cy="77760"/>
                </a:xfrm>
                <a:prstGeom prst="irregularSeal1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025720" y="4098960"/>
                  <a:ext cx="125280" cy="77760"/>
                </a:xfrm>
                <a:prstGeom prst="irregularSeal1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192400" y="4098960"/>
                  <a:ext cx="125280" cy="7776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359080" y="4098960"/>
                  <a:ext cx="125280" cy="7776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540160" y="4098960"/>
                  <a:ext cx="125280" cy="7776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105000" y="4095720"/>
                  <a:ext cx="125640" cy="7776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286080" y="4095720"/>
                  <a:ext cx="125280" cy="7776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155600" y="4089240"/>
                  <a:ext cx="125640" cy="7812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4024440" y="400680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094280" y="400680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127400" y="4064040"/>
                <a:ext cx="127080" cy="13320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914400" y="4114800"/>
              <a:ext cx="3327480" cy="474840"/>
              <a:chOff x="914400" y="4114800"/>
              <a:chExt cx="3327480" cy="474840"/>
            </a:xfrm>
          </p:grpSpPr>
          <p:sp>
            <p:nvSpPr>
              <p:cNvPr id="626" name=""/>
              <p:cNvSpPr/>
              <p:nvPr/>
            </p:nvSpPr>
            <p:spPr>
              <a:xfrm>
                <a:off x="3753000" y="4297320"/>
                <a:ext cx="245880" cy="1065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17440" y="4299120"/>
                <a:ext cx="20664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" name=""/>
              <p:cNvGrpSpPr/>
              <p:nvPr/>
            </p:nvGrpSpPr>
            <p:grpSpPr>
              <a:xfrm>
                <a:off x="3629160" y="4114800"/>
                <a:ext cx="102960" cy="468360"/>
                <a:chOff x="3629160" y="4114800"/>
                <a:chExt cx="102960" cy="4683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3629160" y="4137120"/>
                  <a:ext cx="5148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680280" y="411480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3727440" y="4203720"/>
                <a:ext cx="76320" cy="222120"/>
              </a:xfrm>
              <a:prstGeom prst="ellipse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1041480" y="4121280"/>
                <a:ext cx="102960" cy="468360"/>
                <a:chOff x="1041480" y="4121280"/>
                <a:chExt cx="102960" cy="4683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1041480" y="4143600"/>
                  <a:ext cx="5148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092600" y="412128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5" name=""/>
              <p:cNvSpPr/>
              <p:nvPr/>
            </p:nvSpPr>
            <p:spPr>
              <a:xfrm>
                <a:off x="914400" y="4299120"/>
                <a:ext cx="15228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55600" y="4317840"/>
                <a:ext cx="125640" cy="7812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293840" y="4240080"/>
                <a:ext cx="412560" cy="1796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674720" y="4299120"/>
                <a:ext cx="1089000" cy="107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784520" y="432756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922400" y="4327560"/>
                <a:ext cx="1238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057400" y="432756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192400" y="432756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320920" y="432756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457360" y="432756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728800" y="4241880"/>
                <a:ext cx="387360" cy="177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067200" y="4299120"/>
                <a:ext cx="556920" cy="107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105000" y="432432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86080" y="432432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662120" y="4329000"/>
                <a:ext cx="152280" cy="763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576520" y="4329000"/>
                <a:ext cx="152280" cy="763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011840" y="424188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081680" y="4241880"/>
                <a:ext cx="288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114800" y="4299120"/>
                <a:ext cx="127080" cy="133200"/>
              </a:xfrm>
              <a:prstGeom prst="cube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4" name=""/>
          <p:cNvGrpSpPr/>
          <p:nvPr/>
        </p:nvGrpSpPr>
        <p:grpSpPr>
          <a:xfrm>
            <a:off x="609480" y="4648320"/>
            <a:ext cx="3416400" cy="1600200"/>
            <a:chOff x="609480" y="4648320"/>
            <a:chExt cx="3416400" cy="1600200"/>
          </a:xfrm>
        </p:grpSpPr>
        <p:sp>
          <p:nvSpPr>
            <p:cNvPr id="655" name=""/>
            <p:cNvSpPr/>
            <p:nvPr/>
          </p:nvSpPr>
          <p:spPr>
            <a:xfrm rot="5395200">
              <a:off x="2590200" y="4800600"/>
              <a:ext cx="457200" cy="15228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609480" y="5020200"/>
              <a:ext cx="3124080" cy="1112400"/>
              <a:chOff x="609480" y="5020200"/>
              <a:chExt cx="3124080" cy="1112400"/>
            </a:xfrm>
          </p:grpSpPr>
          <p:sp>
            <p:nvSpPr>
              <p:cNvPr id="657" name=""/>
              <p:cNvSpPr/>
              <p:nvPr/>
            </p:nvSpPr>
            <p:spPr>
              <a:xfrm rot="31200">
                <a:off x="2323800" y="5851080"/>
                <a:ext cx="13320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31200">
                <a:off x="2329920" y="6016320"/>
                <a:ext cx="13356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5460600">
                <a:off x="1713600" y="5004000"/>
                <a:ext cx="533520" cy="91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516" y="974"/>
                      <a:pt x="5431" y="5080"/>
                      <a:pt x="5431" y="10800"/>
                    </a:cubicBezTo>
                    <a:cubicBezTo>
                      <a:pt x="5431" y="16520"/>
                      <a:pt x="13516" y="2062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487680" y="5970600"/>
                <a:ext cx="245880" cy="1062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33560" y="5972040"/>
                <a:ext cx="55728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462120" y="5877000"/>
                <a:ext cx="76320" cy="222120"/>
              </a:xfrm>
              <a:prstGeom prst="ellipse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12520" y="5956200"/>
                <a:ext cx="20664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09480" y="5956200"/>
                <a:ext cx="15228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60400" y="59864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842920" y="600228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024000" y="600228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5460600">
                <a:off x="1724400" y="4774320"/>
                <a:ext cx="533160" cy="104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516" y="974"/>
                      <a:pt x="5431" y="5080"/>
                      <a:pt x="5431" y="10800"/>
                    </a:cubicBezTo>
                    <a:cubicBezTo>
                      <a:pt x="5431" y="16520"/>
                      <a:pt x="13516" y="2062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93560" y="533880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641320" y="533880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87680" y="5840280"/>
                <a:ext cx="245880" cy="1065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28720" y="5842080"/>
                <a:ext cx="20628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833560" y="5842080"/>
                <a:ext cx="557280" cy="107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4" name=""/>
              <p:cNvGrpSpPr/>
              <p:nvPr/>
            </p:nvGrpSpPr>
            <p:grpSpPr>
              <a:xfrm>
                <a:off x="3363840" y="5657760"/>
                <a:ext cx="102960" cy="468360"/>
                <a:chOff x="3363840" y="5657760"/>
                <a:chExt cx="102960" cy="46836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3363840" y="568008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3414960" y="565776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>
                <a:off x="3462120" y="5746680"/>
                <a:ext cx="76320" cy="222120"/>
              </a:xfrm>
              <a:prstGeom prst="ellipse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752400" y="5664240"/>
                <a:ext cx="102960" cy="468360"/>
                <a:chOff x="752400" y="5664240"/>
                <a:chExt cx="102960" cy="46836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752400" y="568656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03520" y="566424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>
                <a:off x="625320" y="5842080"/>
                <a:ext cx="15228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240" y="587196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842920" y="587196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024000" y="587196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798560" y="510048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203200" y="515304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368440" y="531000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504800" y="529272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19280" y="515916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08080" y="509436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006200" y="5940360"/>
                <a:ext cx="425520" cy="17928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38280" y="5940360"/>
                <a:ext cx="393840" cy="177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38280" y="5794200"/>
                <a:ext cx="393840" cy="177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000080" y="5794200"/>
                <a:ext cx="425520" cy="1796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31200">
                <a:off x="1390320" y="5847840"/>
                <a:ext cx="133200" cy="907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657080" y="533088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746000" y="522756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855800" y="517212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12760" y="517680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152440" y="522288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255760" y="532908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31200">
                <a:off x="1396440" y="6000480"/>
                <a:ext cx="13356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536480" y="5559480"/>
                <a:ext cx="819360" cy="520560"/>
              </a:xfrm>
              <a:custGeom>
                <a:avLst/>
                <a:gdLst/>
                <a:ahLst/>
                <a:rect l="l" t="t" r="r" b="b"/>
                <a:pathLst>
                  <a:path w="516" h="328">
                    <a:moveTo>
                      <a:pt x="20" y="0"/>
                    </a:moveTo>
                    <a:cubicBezTo>
                      <a:pt x="18" y="4"/>
                      <a:pt x="17" y="8"/>
                      <a:pt x="16" y="12"/>
                    </a:cubicBezTo>
                    <a:cubicBezTo>
                      <a:pt x="13" y="16"/>
                      <a:pt x="9" y="19"/>
                      <a:pt x="8" y="24"/>
                    </a:cubicBezTo>
                    <a:cubicBezTo>
                      <a:pt x="4" y="31"/>
                      <a:pt x="0" y="48"/>
                      <a:pt x="0" y="48"/>
                    </a:cubicBezTo>
                    <a:cubicBezTo>
                      <a:pt x="5" y="117"/>
                      <a:pt x="12" y="156"/>
                      <a:pt x="76" y="188"/>
                    </a:cubicBezTo>
                    <a:cubicBezTo>
                      <a:pt x="90" y="195"/>
                      <a:pt x="96" y="206"/>
                      <a:pt x="112" y="212"/>
                    </a:cubicBezTo>
                    <a:cubicBezTo>
                      <a:pt x="118" y="230"/>
                      <a:pt x="137" y="231"/>
                      <a:pt x="156" y="236"/>
                    </a:cubicBezTo>
                    <a:cubicBezTo>
                      <a:pt x="181" y="242"/>
                      <a:pt x="208" y="246"/>
                      <a:pt x="232" y="260"/>
                    </a:cubicBezTo>
                    <a:cubicBezTo>
                      <a:pt x="273" y="282"/>
                      <a:pt x="240" y="270"/>
                      <a:pt x="268" y="280"/>
                    </a:cubicBezTo>
                    <a:cubicBezTo>
                      <a:pt x="304" y="307"/>
                      <a:pt x="346" y="314"/>
                      <a:pt x="388" y="328"/>
                    </a:cubicBezTo>
                    <a:cubicBezTo>
                      <a:pt x="432" y="324"/>
                      <a:pt x="472" y="328"/>
                      <a:pt x="516" y="328"/>
                    </a:cubicBezTo>
                  </a:path>
                </a:pathLst>
              </a:custGeom>
              <a:noFill/>
              <a:ln w="41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511280" y="5502240"/>
                <a:ext cx="919080" cy="552600"/>
              </a:xfrm>
              <a:custGeom>
                <a:avLst/>
                <a:gdLst/>
                <a:ahLst/>
                <a:rect l="l" t="t" r="r" b="b"/>
                <a:pathLst>
                  <a:path w="579" h="348">
                    <a:moveTo>
                      <a:pt x="544" y="0"/>
                    </a:moveTo>
                    <a:cubicBezTo>
                      <a:pt x="550" y="13"/>
                      <a:pt x="558" y="26"/>
                      <a:pt x="564" y="40"/>
                    </a:cubicBezTo>
                    <a:cubicBezTo>
                      <a:pt x="567" y="47"/>
                      <a:pt x="569" y="56"/>
                      <a:pt x="572" y="64"/>
                    </a:cubicBezTo>
                    <a:cubicBezTo>
                      <a:pt x="573" y="68"/>
                      <a:pt x="576" y="76"/>
                      <a:pt x="576" y="76"/>
                    </a:cubicBezTo>
                    <a:cubicBezTo>
                      <a:pt x="574" y="102"/>
                      <a:pt x="579" y="144"/>
                      <a:pt x="556" y="168"/>
                    </a:cubicBezTo>
                    <a:cubicBezTo>
                      <a:pt x="504" y="219"/>
                      <a:pt x="420" y="236"/>
                      <a:pt x="352" y="244"/>
                    </a:cubicBezTo>
                    <a:cubicBezTo>
                      <a:pt x="323" y="253"/>
                      <a:pt x="295" y="262"/>
                      <a:pt x="268" y="272"/>
                    </a:cubicBezTo>
                    <a:cubicBezTo>
                      <a:pt x="248" y="301"/>
                      <a:pt x="160" y="313"/>
                      <a:pt x="128" y="316"/>
                    </a:cubicBezTo>
                    <a:cubicBezTo>
                      <a:pt x="95" y="326"/>
                      <a:pt x="57" y="326"/>
                      <a:pt x="24" y="332"/>
                    </a:cubicBezTo>
                    <a:cubicBezTo>
                      <a:pt x="18" y="335"/>
                      <a:pt x="0" y="342"/>
                      <a:pt x="0" y="348"/>
                    </a:cubicBezTo>
                  </a:path>
                </a:pathLst>
              </a:custGeom>
              <a:noFill/>
              <a:ln w="414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406600" y="5438880"/>
                <a:ext cx="88920" cy="431640"/>
              </a:xfrm>
              <a:custGeom>
                <a:avLst/>
                <a:gdLst/>
                <a:ahLst/>
                <a:rect l="l" t="t" r="r" b="b"/>
                <a:pathLst>
                  <a:path w="56" h="272">
                    <a:moveTo>
                      <a:pt x="44" y="0"/>
                    </a:moveTo>
                    <a:cubicBezTo>
                      <a:pt x="49" y="25"/>
                      <a:pt x="56" y="76"/>
                      <a:pt x="56" y="76"/>
                    </a:cubicBezTo>
                    <a:cubicBezTo>
                      <a:pt x="54" y="96"/>
                      <a:pt x="54" y="116"/>
                      <a:pt x="52" y="136"/>
                    </a:cubicBezTo>
                    <a:cubicBezTo>
                      <a:pt x="50" y="150"/>
                      <a:pt x="45" y="146"/>
                      <a:pt x="40" y="160"/>
                    </a:cubicBezTo>
                    <a:cubicBezTo>
                      <a:pt x="32" y="176"/>
                      <a:pt x="26" y="195"/>
                      <a:pt x="20" y="212"/>
                    </a:cubicBezTo>
                    <a:cubicBezTo>
                      <a:pt x="15" y="223"/>
                      <a:pt x="12" y="236"/>
                      <a:pt x="8" y="248"/>
                    </a:cubicBezTo>
                    <a:cubicBezTo>
                      <a:pt x="5" y="256"/>
                      <a:pt x="0" y="272"/>
                      <a:pt x="0" y="272"/>
                    </a:cubicBezTo>
                  </a:path>
                </a:pathLst>
              </a:custGeom>
              <a:noFill/>
              <a:ln w="414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441440" y="5419800"/>
                <a:ext cx="56880" cy="495000"/>
              </a:xfrm>
              <a:custGeom>
                <a:avLst/>
                <a:gdLst/>
                <a:ahLst/>
                <a:rect l="l" t="t" r="r" b="b"/>
                <a:pathLst>
                  <a:path w="36" h="312">
                    <a:moveTo>
                      <a:pt x="36" y="0"/>
                    </a:moveTo>
                    <a:cubicBezTo>
                      <a:pt x="29" y="18"/>
                      <a:pt x="27" y="37"/>
                      <a:pt x="24" y="56"/>
                    </a:cubicBezTo>
                    <a:cubicBezTo>
                      <a:pt x="27" y="128"/>
                      <a:pt x="35" y="207"/>
                      <a:pt x="8" y="276"/>
                    </a:cubicBezTo>
                    <a:cubicBezTo>
                      <a:pt x="6" y="284"/>
                      <a:pt x="5" y="292"/>
                      <a:pt x="4" y="300"/>
                    </a:cubicBezTo>
                    <a:cubicBezTo>
                      <a:pt x="3" y="304"/>
                      <a:pt x="0" y="312"/>
                      <a:pt x="0" y="312"/>
                    </a:cubicBezTo>
                  </a:path>
                </a:pathLst>
              </a:custGeom>
              <a:noFill/>
              <a:ln w="414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3795840" y="578484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65680" y="578484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98800" y="5842080"/>
              <a:ext cx="127080" cy="133200"/>
            </a:xfrm>
            <a:prstGeom prst="cube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83240" y="601992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53080" y="601992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86200" y="6076800"/>
              <a:ext cx="127080" cy="133560"/>
            </a:xfrm>
            <a:prstGeom prst="cube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354720" y="3657600"/>
            <a:ext cx="3322440" cy="1271520"/>
            <a:chOff x="6354720" y="3657600"/>
            <a:chExt cx="3322440" cy="1271520"/>
          </a:xfrm>
        </p:grpSpPr>
        <p:sp>
          <p:nvSpPr>
            <p:cNvPr id="714" name=""/>
            <p:cNvSpPr/>
            <p:nvPr/>
          </p:nvSpPr>
          <p:spPr>
            <a:xfrm flipH="1" flipV="1">
              <a:off x="9509400" y="419076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6354720" y="3657600"/>
              <a:ext cx="3322440" cy="1271520"/>
              <a:chOff x="6354720" y="3657600"/>
              <a:chExt cx="3322440" cy="1271520"/>
            </a:xfrm>
          </p:grpSpPr>
          <p:sp>
            <p:nvSpPr>
              <p:cNvPr id="716" name=""/>
              <p:cNvSpPr/>
              <p:nvPr/>
            </p:nvSpPr>
            <p:spPr>
              <a:xfrm rot="5395200">
                <a:off x="7543440" y="3809880"/>
                <a:ext cx="457200" cy="152640"/>
              </a:xfrm>
              <a:custGeom>
                <a:avLst/>
                <a:gdLst>
                  <a:gd name="textAreaLeft" fmla="*/ 71280 w 457200"/>
                  <a:gd name="textAreaRight" fmla="*/ 400320 w 457200"/>
                  <a:gd name="textAreaTop" fmla="*/ 38160 h 152640"/>
                  <a:gd name="textAreaBottom" fmla="*/ 1144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6354720" y="4038480"/>
                <a:ext cx="3322440" cy="890640"/>
                <a:chOff x="6354720" y="4038480"/>
                <a:chExt cx="3322440" cy="89064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6354720" y="4038480"/>
                  <a:ext cx="3279240" cy="890640"/>
                  <a:chOff x="6354720" y="4038480"/>
                  <a:chExt cx="3279240" cy="89064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9193320" y="4221000"/>
                    <a:ext cx="245880" cy="10656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557760" y="4222800"/>
                    <a:ext cx="206640" cy="9036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9069480" y="4038480"/>
                    <a:ext cx="102960" cy="468360"/>
                    <a:chOff x="9069480" y="4038480"/>
                    <a:chExt cx="102960" cy="468360"/>
                  </a:xfrm>
                </p:grpSpPr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9069480" y="4060800"/>
                      <a:ext cx="5148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480">
                          <a:moveTo>
                            <a:pt x="0" y="0"/>
                          </a:moveTo>
                          <a:cubicBezTo>
                            <a:pt x="18" y="55"/>
                            <a:pt x="44" y="104"/>
                            <a:pt x="80" y="152"/>
                          </a:cubicBezTo>
                          <a:cubicBezTo>
                            <a:pt x="97" y="203"/>
                            <a:pt x="67" y="244"/>
                            <a:pt x="32" y="280"/>
                          </a:cubicBezTo>
                          <a:cubicBezTo>
                            <a:pt x="16" y="325"/>
                            <a:pt x="5" y="334"/>
                            <a:pt x="24" y="384"/>
                          </a:cubicBezTo>
                          <a:cubicBezTo>
                            <a:pt x="36" y="417"/>
                            <a:pt x="71" y="446"/>
                            <a:pt x="88" y="48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9120600" y="4038480"/>
                      <a:ext cx="5184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480">
                          <a:moveTo>
                            <a:pt x="0" y="0"/>
                          </a:moveTo>
                          <a:cubicBezTo>
                            <a:pt x="18" y="55"/>
                            <a:pt x="44" y="104"/>
                            <a:pt x="80" y="152"/>
                          </a:cubicBezTo>
                          <a:cubicBezTo>
                            <a:pt x="97" y="203"/>
                            <a:pt x="67" y="244"/>
                            <a:pt x="32" y="280"/>
                          </a:cubicBezTo>
                          <a:cubicBezTo>
                            <a:pt x="16" y="325"/>
                            <a:pt x="5" y="334"/>
                            <a:pt x="24" y="384"/>
                          </a:cubicBezTo>
                          <a:cubicBezTo>
                            <a:pt x="36" y="417"/>
                            <a:pt x="71" y="446"/>
                            <a:pt x="88" y="48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4" name=""/>
                  <p:cNvSpPr/>
                  <p:nvPr/>
                </p:nvSpPr>
                <p:spPr>
                  <a:xfrm>
                    <a:off x="9167760" y="4127400"/>
                    <a:ext cx="76320" cy="222120"/>
                  </a:xfrm>
                  <a:prstGeom prst="ellipse">
                    <a:avLst/>
                  </a:prstGeom>
                  <a:blipFill rotWithShape="0">
                    <a:blip r:embed="rId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6481800" y="4044960"/>
                    <a:ext cx="102960" cy="468360"/>
                    <a:chOff x="6481800" y="4044960"/>
                    <a:chExt cx="102960" cy="46836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6481800" y="4067280"/>
                      <a:ext cx="5148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480">
                          <a:moveTo>
                            <a:pt x="0" y="0"/>
                          </a:moveTo>
                          <a:cubicBezTo>
                            <a:pt x="18" y="55"/>
                            <a:pt x="44" y="104"/>
                            <a:pt x="80" y="152"/>
                          </a:cubicBezTo>
                          <a:cubicBezTo>
                            <a:pt x="97" y="203"/>
                            <a:pt x="67" y="244"/>
                            <a:pt x="32" y="280"/>
                          </a:cubicBezTo>
                          <a:cubicBezTo>
                            <a:pt x="16" y="325"/>
                            <a:pt x="5" y="334"/>
                            <a:pt x="24" y="384"/>
                          </a:cubicBezTo>
                          <a:cubicBezTo>
                            <a:pt x="36" y="417"/>
                            <a:pt x="71" y="446"/>
                            <a:pt x="88" y="48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6532920" y="4044960"/>
                      <a:ext cx="5184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480">
                          <a:moveTo>
                            <a:pt x="0" y="0"/>
                          </a:moveTo>
                          <a:cubicBezTo>
                            <a:pt x="18" y="55"/>
                            <a:pt x="44" y="104"/>
                            <a:pt x="80" y="152"/>
                          </a:cubicBezTo>
                          <a:cubicBezTo>
                            <a:pt x="97" y="203"/>
                            <a:pt x="67" y="244"/>
                            <a:pt x="32" y="280"/>
                          </a:cubicBezTo>
                          <a:cubicBezTo>
                            <a:pt x="16" y="325"/>
                            <a:pt x="5" y="334"/>
                            <a:pt x="24" y="384"/>
                          </a:cubicBezTo>
                          <a:cubicBezTo>
                            <a:pt x="36" y="417"/>
                            <a:pt x="71" y="446"/>
                            <a:pt x="88" y="48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8" name=""/>
                  <p:cNvSpPr/>
                  <p:nvPr/>
                </p:nvSpPr>
                <p:spPr>
                  <a:xfrm>
                    <a:off x="6354720" y="4222800"/>
                    <a:ext cx="152280" cy="9036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6595920" y="4241520"/>
                    <a:ext cx="125640" cy="7812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6428160" y="4530240"/>
                    <a:ext cx="3205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nversione paracentri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6734160" y="4163760"/>
                    <a:ext cx="412560" cy="179640"/>
                  </a:xfrm>
                  <a:prstGeom prst="cube">
                    <a:avLst>
                      <a:gd name="adj" fmla="val 25000"/>
                    </a:avLst>
                  </a:prstGeom>
                  <a:blipFill rotWithShape="0">
                    <a:blip r:embed="rId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7115040" y="4222800"/>
                    <a:ext cx="1089000" cy="10764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7224840" y="4251240"/>
                    <a:ext cx="12528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7362720" y="4251240"/>
                    <a:ext cx="12384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7497720" y="4251240"/>
                    <a:ext cx="12528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7632720" y="4251240"/>
                    <a:ext cx="125280" cy="77760"/>
                  </a:xfrm>
                  <a:prstGeom prst="irregularSeal1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7761240" y="4251240"/>
                    <a:ext cx="125280" cy="77760"/>
                  </a:xfrm>
                  <a:prstGeom prst="irregularSeal1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7897680" y="4251240"/>
                    <a:ext cx="125640" cy="77760"/>
                  </a:xfrm>
                  <a:prstGeom prst="irregularSeal1">
                    <a:avLst/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8169120" y="4165560"/>
                    <a:ext cx="387360" cy="177840"/>
                  </a:xfrm>
                  <a:prstGeom prst="cube">
                    <a:avLst>
                      <a:gd name="adj" fmla="val 25000"/>
                    </a:avLst>
                  </a:prstGeom>
                  <a:blipFill rotWithShape="0">
                    <a:blip r:embed="rId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8507520" y="4222800"/>
                    <a:ext cx="556920" cy="10764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8545320" y="4248000"/>
                    <a:ext cx="12564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8726400" y="4248000"/>
                    <a:ext cx="12564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7102440" y="4252680"/>
                    <a:ext cx="152280" cy="76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ff0000"/>
                      </a:gs>
                      <a:gs pos="100000">
                        <a:srgbClr val="808080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8016840" y="4252680"/>
                    <a:ext cx="152280" cy="76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ff0000"/>
                      </a:gs>
                      <a:gs pos="100000">
                        <a:srgbClr val="808080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5" name=""/>
                <p:cNvSpPr/>
                <p:nvPr/>
              </p:nvSpPr>
              <p:spPr>
                <a:xfrm flipH="1" flipV="1">
                  <a:off x="9439560" y="4152240"/>
                  <a:ext cx="2880" cy="228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rot="10800000">
                  <a:off x="9550080" y="4190760"/>
                  <a:ext cx="127080" cy="1332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47" name=""/>
          <p:cNvGrpSpPr/>
          <p:nvPr/>
        </p:nvGrpSpPr>
        <p:grpSpPr>
          <a:xfrm>
            <a:off x="4572000" y="5325120"/>
            <a:ext cx="4854600" cy="1321920"/>
            <a:chOff x="4572000" y="5325120"/>
            <a:chExt cx="4854600" cy="1321920"/>
          </a:xfrm>
        </p:grpSpPr>
        <p:sp>
          <p:nvSpPr>
            <p:cNvPr id="748" name=""/>
            <p:cNvSpPr/>
            <p:nvPr/>
          </p:nvSpPr>
          <p:spPr>
            <a:xfrm>
              <a:off x="5977080" y="5772240"/>
              <a:ext cx="556920" cy="1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937720" y="5770440"/>
              <a:ext cx="245880" cy="106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8813880" y="5587920"/>
              <a:ext cx="102960" cy="468360"/>
              <a:chOff x="8813880" y="5587920"/>
              <a:chExt cx="102960" cy="468360"/>
            </a:xfrm>
          </p:grpSpPr>
          <p:sp>
            <p:nvSpPr>
              <p:cNvPr id="751" name=""/>
              <p:cNvSpPr/>
              <p:nvPr/>
            </p:nvSpPr>
            <p:spPr>
              <a:xfrm>
                <a:off x="8813880" y="5610240"/>
                <a:ext cx="5148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865000" y="558792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8912160" y="5676840"/>
              <a:ext cx="76320" cy="222480"/>
            </a:xfrm>
            <a:prstGeom prst="ellipse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78560" y="5713560"/>
              <a:ext cx="412920" cy="179280"/>
            </a:xfrm>
            <a:prstGeom prst="cube">
              <a:avLst>
                <a:gd name="adj" fmla="val 25000"/>
              </a:avLst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59440" y="5772240"/>
              <a:ext cx="1089000" cy="1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969240" y="5800680"/>
              <a:ext cx="12528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07120" y="5800680"/>
              <a:ext cx="12384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42120" y="5800680"/>
              <a:ext cx="12564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77120" y="5800680"/>
              <a:ext cx="125280" cy="77760"/>
            </a:xfrm>
            <a:prstGeom prst="irregularSeal1">
              <a:avLst/>
            </a:prstGeom>
            <a:solidFill>
              <a:srgbClr val="eaee1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05640" y="5800680"/>
              <a:ext cx="125640" cy="77760"/>
            </a:xfrm>
            <a:prstGeom prst="irregularSeal1">
              <a:avLst/>
            </a:prstGeom>
            <a:solidFill>
              <a:srgbClr val="eaee1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42080" y="5800680"/>
              <a:ext cx="125640" cy="77760"/>
            </a:xfrm>
            <a:prstGeom prst="irregularSeal1">
              <a:avLst/>
            </a:prstGeom>
            <a:solidFill>
              <a:srgbClr val="eaee1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913520" y="5715000"/>
              <a:ext cx="387360" cy="177840"/>
            </a:xfrm>
            <a:prstGeom prst="cube">
              <a:avLst>
                <a:gd name="adj" fmla="val 25000"/>
              </a:avLst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51920" y="5772240"/>
              <a:ext cx="557280" cy="1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90080" y="579744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470800" y="579744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46840" y="5802480"/>
              <a:ext cx="152280" cy="759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0000"/>
                </a:gs>
                <a:gs pos="100000">
                  <a:srgbClr val="80808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196560" y="571500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9266400" y="571500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299520" y="5772240"/>
              <a:ext cx="127080" cy="133200"/>
            </a:xfrm>
            <a:prstGeom prst="cube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10240" y="5776920"/>
              <a:ext cx="245880" cy="1062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5905440" y="5562720"/>
              <a:ext cx="102960" cy="468360"/>
              <a:chOff x="5905440" y="5562720"/>
              <a:chExt cx="102960" cy="468360"/>
            </a:xfrm>
          </p:grpSpPr>
          <p:sp>
            <p:nvSpPr>
              <p:cNvPr id="772" name=""/>
              <p:cNvSpPr/>
              <p:nvPr/>
            </p:nvSpPr>
            <p:spPr>
              <a:xfrm>
                <a:off x="5905440" y="558504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956560" y="556272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816520" y="5694480"/>
              <a:ext cx="76320" cy="222120"/>
            </a:xfrm>
            <a:prstGeom prst="ellips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143760" y="579600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324480" y="579600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507280" y="571356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577120" y="5713560"/>
              <a:ext cx="288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34120" y="5770440"/>
              <a:ext cx="126720" cy="133560"/>
            </a:xfrm>
            <a:prstGeom prst="cube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6553080" y="6172200"/>
              <a:ext cx="2590920" cy="474840"/>
              <a:chOff x="6553080" y="6172200"/>
              <a:chExt cx="2590920" cy="474840"/>
            </a:xfrm>
          </p:grpSpPr>
          <p:sp>
            <p:nvSpPr>
              <p:cNvPr id="781" name=""/>
              <p:cNvSpPr/>
              <p:nvPr/>
            </p:nvSpPr>
            <p:spPr>
              <a:xfrm>
                <a:off x="6756480" y="6356520"/>
                <a:ext cx="206280" cy="997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2" name=""/>
              <p:cNvGrpSpPr/>
              <p:nvPr/>
            </p:nvGrpSpPr>
            <p:grpSpPr>
              <a:xfrm>
                <a:off x="8915400" y="6172200"/>
                <a:ext cx="102960" cy="468360"/>
                <a:chOff x="8915400" y="6172200"/>
                <a:chExt cx="102960" cy="46836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8915400" y="619452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8966520" y="617220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6680160" y="6178680"/>
                <a:ext cx="102960" cy="468360"/>
                <a:chOff x="6680160" y="6178680"/>
                <a:chExt cx="102960" cy="46836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6680160" y="620100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6731280" y="617868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8" name=""/>
              <p:cNvSpPr/>
              <p:nvPr/>
            </p:nvSpPr>
            <p:spPr>
              <a:xfrm>
                <a:off x="6553080" y="6356520"/>
                <a:ext cx="15264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794640" y="6375240"/>
                <a:ext cx="125280" cy="7812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932520" y="6297480"/>
                <a:ext cx="412920" cy="1796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313760" y="6356520"/>
                <a:ext cx="1089000" cy="107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423200" y="6384960"/>
                <a:ext cx="125280" cy="77760"/>
              </a:xfrm>
              <a:prstGeom prst="irregularSeal1">
                <a:avLst/>
              </a:prstGeom>
              <a:solidFill>
                <a:srgbClr val="eaee1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561440" y="6384960"/>
                <a:ext cx="123480" cy="77760"/>
              </a:xfrm>
              <a:prstGeom prst="irregularSeal1">
                <a:avLst/>
              </a:prstGeom>
              <a:solidFill>
                <a:srgbClr val="eaee1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96080" y="6384960"/>
                <a:ext cx="125640" cy="77760"/>
              </a:xfrm>
              <a:prstGeom prst="irregularSeal1">
                <a:avLst/>
              </a:prstGeom>
              <a:solidFill>
                <a:srgbClr val="eaee1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831080" y="638496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959600" y="638496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096400" y="638496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367840" y="6299280"/>
                <a:ext cx="387360" cy="1778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4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300800" y="6386400"/>
                <a:ext cx="152640" cy="763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717040" y="6356520"/>
                <a:ext cx="206280" cy="1126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724960" y="6383160"/>
                <a:ext cx="125280" cy="7812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991720" y="6384960"/>
                <a:ext cx="152280" cy="903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4692600" y="532512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isatellit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304240" y="626976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cent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72000" y="6095880"/>
              <a:ext cx="685800" cy="22860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4419720" y="5105520"/>
            <a:ext cx="5379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451880" y="6925320"/>
            <a:ext cx="77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dificato da: B.S.Emanuel &amp;T.H.Shaikh: Nat.Genet.Rev. 2(10)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219320" y="2514600"/>
            <a:ext cx="748800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15)(q11q13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ted 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22)(q11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ted 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c(X)(p11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odicen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 dup(8p)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/dup/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r(8)(pterp23.1::p23.2pter);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/dup/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(8)(p23.1p23.2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5)(q24q26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(11;22)(11q23;22q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iarragiamenti costituziona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81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914400" y="5562720"/>
            <a:ext cx="8001000" cy="533160"/>
          </a:xfrm>
          <a:prstGeom prst="rect">
            <a:avLst/>
          </a:prstGeom>
          <a:solidFill>
            <a:srgbClr val="ff00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0-04-11T15:44:35Z</cp:lastPrinted>
  <dcterms:modified xsi:type="dcterms:W3CDTF">2004-04-26T11:14:37Z</dcterms:modified>
  <cp:revision>1015</cp:revision>
  <dc:subject/>
  <dc:title>Geen diatitel</dc:title>
</cp:coreProperties>
</file>